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26.wmf" ContentType="image/x-wmf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B691-036A-41D1-A297-C8751488E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CD8E-D36F-4433-8B8C-5A99B9E90D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4CE8-E859-40B0-A23D-F13C520D27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4EF7-BF41-4A5B-9048-A9502F1F41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95A0-C171-4642-A7C8-FA2293CB27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BC89-4595-4574-AD20-53EA9E5C91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EBB3-89E0-4ACC-8F88-7EE68B1366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0E57-295A-4E98-A3C4-2C137DE232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1AFF-6EBA-4DE3-8FB0-D2CA2A0147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601F-D040-4817-841A-59BB79F3C7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E79B-38E0-4B60-8680-369077A4CB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CFCA-D4C5-4EE3-BABD-3DEA908F2C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839B-0F0E-40BF-8B00-DD08B8382F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CF6D-E954-40DE-BAF2-6BBED029C2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8214-1DA1-4426-98D4-14578C6802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AF64-DDBD-4B32-9B52-5AAD31FE65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B3A2-94EC-4DD1-ADAB-70809C2491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37EF-D32D-4771-BBBC-ED011113B7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48EB-8A11-4FB1-B424-260CA41E6B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00F8-8866-476C-97BA-9CB67EB7BD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D057-FB0C-4871-BDF3-9ED5BA473B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0A23-FD30-4704-A242-8D793C6440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5D6B-20A5-4252-81D9-93C0846D1B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5C8E-E93F-4E7B-8336-E276F34C9C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78E9-99DB-40B4-87BB-DA43244648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516F-7520-4BC4-BA9D-53B9F26B67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DD92-49A9-4703-9E7A-E45FF1496A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FE47-B799-4A73-8941-056B4A288A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6096-8E98-4380-84CE-8106C65D56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body"/>
          </p:nvPr>
        </p:nvSpPr>
        <p:spPr>
          <a:xfrm>
            <a:off x="514080" y="4341960"/>
            <a:ext cx="5910120" cy="4116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important thing you need to know before you start designing a processor is how the instructions look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 more technical term, you need to know the instruction format. One good thing about the MIPS instruction set is that it is very si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of all, all MIPS instructions are 32 bits long and there are only three instruction formats: (a) R-type, (b) I-type, and (c) J-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fields of the R-type instru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OP specifies the operation of the in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Rs, Rt, and Rd are the source and destination register specif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hamt specifies the amount you need to shift for the shift 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 Funct selects the variant of the operation specified in the “op”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I-type instruction, bits 0 to 15 are used as an immediate field.  I will show you how this immediate field is used differently by different instru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 for the J-type instruction, bits 0 to 25 become the target address of the j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3 = 10 min. (X:5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ldImg"/>
          </p:nvPr>
        </p:nvSpPr>
        <p:spPr>
          <a:xfrm>
            <a:off x="1160640" y="588960"/>
            <a:ext cx="4547880" cy="3411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3658-003A-447C-AEF3-B0C2AC7E54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85B6-DE2F-4DAA-9BBE-299AD2EE7D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CBC3-E681-47A7-8F05-49ADC851AE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F2F3-DAD8-4977-A9E2-19F80CFA64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20B7-8159-4C7C-95DA-2EDE7BBC4F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79360" y="712800"/>
            <a:ext cx="4561200" cy="342108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42840" y="4347720"/>
            <a:ext cx="503424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C295-13A6-4B6E-9AC9-F7BE5E59C4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A2B-85CD-4386-AB82-F5D590E738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5BD0-8A0A-4DE0-8C24-FF42D636DF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6175-98C0-4CF5-BCF2-594C287412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body"/>
          </p:nvPr>
        </p:nvSpPr>
        <p:spPr>
          <a:xfrm>
            <a:off x="514080" y="4341960"/>
            <a:ext cx="5910120" cy="4116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the Register Transfer Language examples we have so far, we know we will need the following combinational logic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need an adder to update the program coun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UX to select the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an ALU to do various arithmetic and logic op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 = 30 min. (Y: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sldImg"/>
          </p:nvPr>
        </p:nvSpPr>
        <p:spPr>
          <a:xfrm>
            <a:off x="1160640" y="588960"/>
            <a:ext cx="4547880" cy="3411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3EF-34AC-4C87-B715-B053C298CB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422B-AE13-4222-938E-504E8CEF09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6D83-F7A0-48B5-AB87-4AA462A7C5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6AF8-2B0B-4881-9DD8-055C607DBA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899A-FD31-4F8D-B781-B39B8FC497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4755-53DF-4F8D-82EF-B2CF233401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93F4-FC6C-42D5-BD28-FD248010B6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AC5B-3220-4650-BAE2-D9A399430A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E85F-6FD8-4B94-89B5-D7487992AE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DFAC-29B4-47C5-9320-1F146D02F4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7539-33A7-4517-AA77-E058AF2F39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6DB5-5085-419A-89CE-A9A9B9B75E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7E1E-EC30-46BF-971D-66D5CBD420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5A56-6E3E-416A-ACA0-940BCC3DA8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C3B4-8724-4113-8260-EAC405FBC9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7756-472C-4732-92DC-6F6FE5311F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B662-BD85-43A3-A56B-D131B47C9A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597D-06B8-42FB-A14D-B7C54BC5D7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DA3D-EC10-4457-BFC2-850E14E1F9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273B-9A3D-4A50-B889-94847E9845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E885-C6FB-4347-9C75-C5995E53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909-5825-4685-9849-FC570413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0053F-6BF8-4903-9E0D-177892C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21A6B-113D-4D09-8812-6D55E412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97DD9-ACA6-42B1-8248-AB133A0B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C8A43-8003-4389-AC20-DD3099C4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D263E-8B35-44B0-95B0-8376CC42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C1EA2-4240-4D61-90D4-F4D3BEDB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B79F5-E0DA-4031-8641-915CED76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97C63-A981-47F7-8947-BCEE440D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3FDFA-5292-400C-A4DE-0A31C8FB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3D1D0-F3DB-4C1E-AFB4-1E035EB3F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977-7E62-4121-8FD5-733577E6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C4D54-248C-459F-BF3C-F79C1B1E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696FE-F177-44CD-A01E-08FE7E75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A0E10-1398-408B-9B36-AA0D7296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7F0AA-FB80-476F-A91A-1C9C0D4E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DD39B-4340-4C80-9787-ECE082C7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D4ED9-AC45-4C6B-9E39-E5810D89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11B3A-39AD-4161-89C2-7544E99A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01302-34A1-4BB2-82BE-A9E2DC5F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7AA55-FF09-4AC4-B34F-24D39969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4F2DE-92FC-42F8-9AA2-E644C346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2129-A7E7-4DD7-ACD0-39F63A9D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61F64-9B88-4140-B144-4319314B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1A85F-1320-4B21-BA05-B4180F3A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47708-2856-41E0-BA36-3D9D9E09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37359-CE7F-4740-BDF0-2AF40407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77B9D-6EAD-48EB-ADC1-6F0DA830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CFC00-2374-47E0-9782-91E8C21B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FF450B-A7E7-4B6C-92B2-6AA3CB7A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66286-BC2F-4D57-8439-6AAA34A0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7208C-E224-46D7-9FFB-B3D35867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D2568-BE71-4BA9-A2F9-ACA93D55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9036-54F8-4ABA-9EA7-939378B79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14DB8-2BA9-43FD-8A21-3B0819C9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EBEBF-E93B-42EE-8F13-C7A7BD73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C63E2-CA30-4C32-BB55-C1EA7B57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15B60-CCB4-42EA-BB70-9A2B482C5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918B6-E490-44EB-AF8C-C59A1D8C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B436E-D782-44AF-8EA3-5A94AD533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9968B-F065-4117-A19F-9B29C962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1C839-7795-4BF3-8455-8F8ECC3C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04F4C-B088-4422-9FB8-A625791D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25722D-CA11-40B5-A77C-3DCD708C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5B56-9C85-4D47-A331-22104538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13FFC-E120-456D-808C-045D6D9D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F4D40D-7A41-44D9-8BA8-1CF078FC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B6879-72C5-4C93-981F-B25B876F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9CC02-18F6-420D-B780-72A109BC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E7258-8E62-4F69-A982-C8520C34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279E-B66A-43A9-89CC-E2A7419C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85B4-8416-4082-9BE3-207EC56F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E226-30DE-4668-8E42-05659CD1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E839-712B-402A-8B7C-F0DFF0A7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76AC-3F97-49F0-B341-230E05F2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33AB-04D5-414E-8C30-AC529380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D572-E438-4C1D-BB64-A6E34260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B044-392C-4A68-A0CC-02A3CB4E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3CC8-26C3-45AF-BD46-D741CDB4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31AB-0A33-4C4F-9F4C-ADC6443D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B4F53-B330-4DD3-8832-57D615B4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B9750-A113-4B39-BF0A-A271E620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C955-D08B-49F9-9C34-1DE85745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83AB-8800-4BE5-B08C-07CC7E17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2D12-847F-463D-947A-004B6628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7CF2-AA89-4805-B904-ED6915E2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107-5E2B-4EE2-AC56-6CA4EC2A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2051-069A-4EDD-A4FD-A320C659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3276A-C8A7-475B-AE2C-39E8FFFC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05501-BA66-4A1F-9A21-EB54840D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2152-83E6-454C-B713-A08C3EC3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D53AA-3F8E-4600-BCBB-A3AD2190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B79F8-DCB0-40DD-865E-607CED4D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D1FF-EB57-45E2-80CC-99F69CFA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599B5-8D96-48F8-8ADB-79FD7E6C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C82FE-7AFB-4787-98A9-083B4378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5B3D7-DDCE-4F5D-9FCA-FE4FF444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CB41-CA7B-447F-BC00-A0C6EDA9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D7F6-F5D3-4568-B334-70271848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3CC77-8257-45C3-800C-54BB9100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28F97-7966-4187-AE29-440B8D0F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E6D4D-9C12-47EE-AED0-1A87C3BC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0CEB4-91CA-44C4-8AAA-CDFE56F6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754F3-095B-4E8C-80D8-16889A95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777E-C770-4CE7-B33A-21C5310E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5F3CD-89B0-47FE-B386-64DE7C6A6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1320-F7E4-4D30-8E9C-2063CEE8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73110-F0F7-42C1-A4B2-06DBF1B2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CC85-39DB-4CDC-A613-06D9A6B5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46048-4D08-4858-8D81-0D500C10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45AEC-2A64-4C87-909E-1D1B029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8024D-2A07-4152-ABA0-D7C8AD18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3A33D-7123-453D-88B0-FB0AE601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2AB70-653C-4B77-8277-774F4746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B5F24-0635-4E52-BEB5-4CE3F8DD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5571B-8F7A-4DC8-ACBB-B6CBDD64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68687-88C4-4BAF-A369-6BBD3FE1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B3ED5-2DEC-41CA-89A9-E7628412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064C-B76B-4AA4-9C24-12977944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ADA-0FD0-4854-965A-093C7581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6E5AC-EA85-4168-915B-DC23BDF1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CE924-EB3F-425D-A329-B4D6A10C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9B68D-B9E0-4A04-AA6B-A5496C91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4AB1A-B536-40C7-9111-1971992E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6F81E-97A4-48BF-A24F-F8A4A79F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FDF46-79CE-41EE-9CFB-D90D1AE2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A2592-BCF1-47C9-A940-608EA7A7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84AD2-FD95-4286-9EA7-E948AFC5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40453-DC24-4B54-A839-66A5FAAC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9A546-89C0-4AF4-9B30-87B24B52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59D9-1CFB-4BB1-AEA0-C1A1DA1D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7AA4B-5541-4BC8-BE99-403C1E1B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D98E5-F5D6-4642-8F5F-B86D9294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018FC-3731-45C9-B053-AE616A70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448DB-5BD1-4B57-8233-4B3D2B62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3E4D9-DEDA-4A2B-AA31-A330FB81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B44BA-95CF-4F39-86E6-922680F3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40A25-A528-4C2C-AFC1-A69687CA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829DE-766C-4579-970E-AF30FFAE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A4C84-D8D2-4191-AD8E-E79F14B4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DB4DD-695C-4E43-83C8-0C2485AF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7DF-AA2F-46A3-8D51-7F2FC4D4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CEEBA-6B1A-4002-ABC2-94DB6958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00A17-A938-4862-8A9B-533B00D1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5F3C7-CACE-4182-9231-2338BAA0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844A0-601B-4605-A4EE-3D701E44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A5704-4F88-46C2-9133-CA101F1B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D38BA-4B51-4DAD-8B1A-0D854AE5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9DCC6-918C-451B-A166-D3586756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9707B-BC36-4679-8A3A-89B17E08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3E76E-04E5-48C1-83E5-A5357D19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BD222-B748-418D-96CB-E0002F67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73F-333B-49CC-8313-EEE9025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F4BD-8A77-4517-8ED5-1F5F5C3D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7EDE4-EB6D-4B0B-B145-1F793F5E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7359E-E3E1-488C-85C1-90BC217D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C72C9-C5E6-47B9-95E1-11446F0C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69000-F62E-4203-B437-C78E9D20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DC2A9-4F33-49AC-A328-F686D6F5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CAD52-1141-4AC3-BD5D-A2139EE1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EDE4E-0D39-4559-AA2C-26B8709F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6D4D5-5014-4EE5-9DF8-6C75384B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3A03E-B89F-479E-8590-03D3A388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42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3361-07EE-4640-A972-224C85977640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760C-783A-4F1F-A3A8-CFA1E1F6578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4E53-14CF-4616-87CC-E58C1FD161A7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5A85-7038-4634-B47E-7ED04D1879AB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14E0-FB51-4E35-BCD1-66ABDC445D0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3EF3-FCCF-4AE1-ACF5-C6C5B24B743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6B0F-50C6-439C-B740-4E12D7EC773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2EFD-A4B1-46B2-A9EB-5E7497D89EA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9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435C-900E-4E60-8BEC-94D983D645F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2359-E0FB-4CEE-9EBC-003925F5D55E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49A5-77A0-4635-9189-6CA3AE1453F8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3"/>
          <p:cNvSpPr/>
          <p:nvPr/>
        </p:nvSpPr>
        <p:spPr>
          <a:xfrm>
            <a:off x="1447920" y="3962520"/>
            <a:ext cx="7407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0e04"/>
                </a:solidFill>
                <a:latin typeface="Gill Sans MT"/>
                <a:ea typeface="ＭＳ ゴシック"/>
              </a:rPr>
              <a:t>Lecture 5: Memory Address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Computer Organization </a:t>
            </a:r>
            <a:br>
              <a:rPr sz="3600"/>
            </a:b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and Architectu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dexed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284472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1454040" y="1982880"/>
            <a:ext cx="4722840" cy="60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"/>
          <p:cNvSpPr/>
          <p:nvPr/>
        </p:nvSpPr>
        <p:spPr>
          <a:xfrm>
            <a:off x="2444760" y="1990800"/>
            <a:ext cx="0" cy="59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2570040" y="205740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1656360" y="205740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6380280" y="28954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6380280" y="32767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0"/>
          <p:cNvSpPr/>
          <p:nvPr/>
        </p:nvSpPr>
        <p:spPr>
          <a:xfrm>
            <a:off x="6380280" y="36576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1"/>
          <p:cNvSpPr/>
          <p:nvPr/>
        </p:nvSpPr>
        <p:spPr>
          <a:xfrm>
            <a:off x="6380280" y="40384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12"/>
          <p:cNvSpPr/>
          <p:nvPr/>
        </p:nvSpPr>
        <p:spPr>
          <a:xfrm>
            <a:off x="6380280" y="44197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6939360" y="236376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4"/>
          <p:cNvSpPr/>
          <p:nvPr/>
        </p:nvSpPr>
        <p:spPr>
          <a:xfrm>
            <a:off x="7139520" y="3962520"/>
            <a:ext cx="106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15"/>
          <p:cNvSpPr/>
          <p:nvPr/>
        </p:nvSpPr>
        <p:spPr>
          <a:xfrm>
            <a:off x="1427040" y="35053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6"/>
          <p:cNvSpPr/>
          <p:nvPr/>
        </p:nvSpPr>
        <p:spPr>
          <a:xfrm>
            <a:off x="2722680" y="2590920"/>
            <a:ext cx="0" cy="59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7"/>
          <p:cNvSpPr/>
          <p:nvPr/>
        </p:nvSpPr>
        <p:spPr>
          <a:xfrm flipH="1">
            <a:off x="685800" y="3124080"/>
            <a:ext cx="203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18"/>
          <p:cNvSpPr/>
          <p:nvPr/>
        </p:nvSpPr>
        <p:spPr>
          <a:xfrm>
            <a:off x="1883160" y="3200400"/>
            <a:ext cx="161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dex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reeform 19"/>
          <p:cNvSpPr/>
          <p:nvPr/>
        </p:nvSpPr>
        <p:spPr>
          <a:xfrm>
            <a:off x="690480" y="3124080"/>
            <a:ext cx="507960" cy="1447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20"/>
          <p:cNvSpPr/>
          <p:nvPr/>
        </p:nvSpPr>
        <p:spPr>
          <a:xfrm>
            <a:off x="3027240" y="19810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21"/>
          <p:cNvSpPr/>
          <p:nvPr/>
        </p:nvSpPr>
        <p:spPr>
          <a:xfrm>
            <a:off x="4167360" y="205740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isplacemen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22"/>
          <p:cNvSpPr/>
          <p:nvPr/>
        </p:nvSpPr>
        <p:spPr>
          <a:xfrm>
            <a:off x="4807080" y="4268880"/>
            <a:ext cx="529920" cy="453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23"/>
          <p:cNvSpPr/>
          <p:nvPr/>
        </p:nvSpPr>
        <p:spPr>
          <a:xfrm>
            <a:off x="4908240" y="426888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24"/>
          <p:cNvSpPr/>
          <p:nvPr/>
        </p:nvSpPr>
        <p:spPr>
          <a:xfrm>
            <a:off x="4030560" y="4495680"/>
            <a:ext cx="776520" cy="77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5"/>
          <p:cNvSpPr/>
          <p:nvPr/>
        </p:nvSpPr>
        <p:spPr>
          <a:xfrm>
            <a:off x="5033880" y="2598840"/>
            <a:ext cx="0" cy="16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26"/>
          <p:cNvSpPr/>
          <p:nvPr/>
        </p:nvSpPr>
        <p:spPr>
          <a:xfrm flipV="1">
            <a:off x="5389560" y="4266360"/>
            <a:ext cx="990720" cy="150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27"/>
          <p:cNvSpPr/>
          <p:nvPr/>
        </p:nvSpPr>
        <p:spPr>
          <a:xfrm>
            <a:off x="3865680" y="19810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28"/>
          <p:cNvSpPr/>
          <p:nvPr/>
        </p:nvSpPr>
        <p:spPr>
          <a:xfrm>
            <a:off x="1427040" y="37339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29"/>
          <p:cNvSpPr/>
          <p:nvPr/>
        </p:nvSpPr>
        <p:spPr>
          <a:xfrm>
            <a:off x="1427040" y="39625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0"/>
          <p:cNvSpPr/>
          <p:nvPr/>
        </p:nvSpPr>
        <p:spPr>
          <a:xfrm>
            <a:off x="1427040" y="41911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1"/>
          <p:cNvSpPr/>
          <p:nvPr/>
        </p:nvSpPr>
        <p:spPr>
          <a:xfrm>
            <a:off x="1427040" y="44197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2"/>
          <p:cNvSpPr/>
          <p:nvPr/>
        </p:nvSpPr>
        <p:spPr>
          <a:xfrm>
            <a:off x="1427040" y="46483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33"/>
          <p:cNvSpPr/>
          <p:nvPr/>
        </p:nvSpPr>
        <p:spPr>
          <a:xfrm>
            <a:off x="1427040" y="48769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34"/>
          <p:cNvSpPr/>
          <p:nvPr/>
        </p:nvSpPr>
        <p:spPr>
          <a:xfrm>
            <a:off x="1427040" y="5105520"/>
            <a:ext cx="2587680" cy="22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5"/>
          <p:cNvSpPr/>
          <p:nvPr/>
        </p:nvSpPr>
        <p:spPr>
          <a:xfrm>
            <a:off x="1199880" y="3429000"/>
            <a:ext cx="28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36"/>
          <p:cNvSpPr/>
          <p:nvPr/>
        </p:nvSpPr>
        <p:spPr>
          <a:xfrm>
            <a:off x="6380280" y="48006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37"/>
          <p:cNvSpPr/>
          <p:nvPr/>
        </p:nvSpPr>
        <p:spPr>
          <a:xfrm>
            <a:off x="6380280" y="51814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38"/>
          <p:cNvSpPr/>
          <p:nvPr/>
        </p:nvSpPr>
        <p:spPr>
          <a:xfrm>
            <a:off x="6380280" y="55627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39"/>
          <p:cNvSpPr/>
          <p:nvPr/>
        </p:nvSpPr>
        <p:spPr>
          <a:xfrm>
            <a:off x="3481920" y="152388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40"/>
          <p:cNvSpPr/>
          <p:nvPr/>
        </p:nvSpPr>
        <p:spPr>
          <a:xfrm>
            <a:off x="2195640" y="2022480"/>
            <a:ext cx="37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uto increment and  Auto decrement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cated index register is automatically incremented or decremen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-, pre-incremen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++R,    R++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-, pre-decremen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--R,    R--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direct Addressing (1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emory cell pointed to by address field contains the address of (pointer to) the operan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A = (A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ook in A, find address (A) and look there for operan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.g. ADD (A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d contents of cell pointed to by contents of A to accumulat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rge address spac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where n = word lengt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y be nested, multilevel, cascad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.g. EA = (((A))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744120" indent="-1918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raw the diagram yourself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ultiple memory accesses to find operan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ence slow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06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direct Addressing Diagr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533520" y="2365200"/>
            <a:ext cx="4722840" cy="605160"/>
            <a:chOff x="533520" y="2365200"/>
            <a:chExt cx="4722840" cy="605160"/>
          </a:xfrm>
        </p:grpSpPr>
        <p:sp>
          <p:nvSpPr>
            <p:cNvPr id="689" name="Rectangle 6"/>
            <p:cNvSpPr/>
            <p:nvPr/>
          </p:nvSpPr>
          <p:spPr>
            <a:xfrm>
              <a:off x="533520" y="2365200"/>
              <a:ext cx="4722840" cy="60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7"/>
            <p:cNvSpPr/>
            <p:nvPr/>
          </p:nvSpPr>
          <p:spPr>
            <a:xfrm>
              <a:off x="1523880" y="2373480"/>
              <a:ext cx="0" cy="59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Rectangle 8"/>
          <p:cNvSpPr/>
          <p:nvPr/>
        </p:nvSpPr>
        <p:spPr>
          <a:xfrm>
            <a:off x="3505680" y="2438280"/>
            <a:ext cx="147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ddr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9"/>
          <p:cNvSpPr/>
          <p:nvPr/>
        </p:nvSpPr>
        <p:spPr>
          <a:xfrm>
            <a:off x="456840" y="24415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0"/>
          <p:cNvSpPr/>
          <p:nvPr/>
        </p:nvSpPr>
        <p:spPr>
          <a:xfrm>
            <a:off x="2207160" y="190800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1"/>
          <p:cNvSpPr/>
          <p:nvPr/>
        </p:nvSpPr>
        <p:spPr>
          <a:xfrm>
            <a:off x="5486400" y="32796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2"/>
          <p:cNvSpPr/>
          <p:nvPr/>
        </p:nvSpPr>
        <p:spPr>
          <a:xfrm>
            <a:off x="5486400" y="39654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3"/>
          <p:cNvSpPr/>
          <p:nvPr/>
        </p:nvSpPr>
        <p:spPr>
          <a:xfrm>
            <a:off x="5486400" y="46512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4"/>
          <p:cNvSpPr/>
          <p:nvPr/>
        </p:nvSpPr>
        <p:spPr>
          <a:xfrm>
            <a:off x="5486400" y="53370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5"/>
          <p:cNvSpPr/>
          <p:nvPr/>
        </p:nvSpPr>
        <p:spPr>
          <a:xfrm>
            <a:off x="5486400" y="60228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6"/>
          <p:cNvSpPr/>
          <p:nvPr/>
        </p:nvSpPr>
        <p:spPr>
          <a:xfrm>
            <a:off x="6018480" y="274644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7"/>
          <p:cNvSpPr/>
          <p:nvPr/>
        </p:nvSpPr>
        <p:spPr>
          <a:xfrm>
            <a:off x="6171840" y="480384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Freeform 18"/>
          <p:cNvSpPr/>
          <p:nvPr/>
        </p:nvSpPr>
        <p:spPr>
          <a:xfrm>
            <a:off x="4114800" y="2971800"/>
            <a:ext cx="1371600" cy="650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9"/>
          <p:cNvSpPr/>
          <p:nvPr/>
        </p:nvSpPr>
        <p:spPr>
          <a:xfrm>
            <a:off x="5560920" y="3430440"/>
            <a:ext cx="24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reeform 20"/>
          <p:cNvSpPr/>
          <p:nvPr/>
        </p:nvSpPr>
        <p:spPr>
          <a:xfrm>
            <a:off x="8075520" y="3621240"/>
            <a:ext cx="230400" cy="1373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22860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22"/>
          <p:cNvSpPr/>
          <p:nvPr/>
        </p:nvSpPr>
        <p:spPr>
          <a:xfrm>
            <a:off x="18288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3"/>
          <p:cNvSpPr/>
          <p:nvPr/>
        </p:nvSpPr>
        <p:spPr>
          <a:xfrm>
            <a:off x="1905120" y="243828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24"/>
          <p:cNvSpPr/>
          <p:nvPr/>
        </p:nvSpPr>
        <p:spPr>
          <a:xfrm>
            <a:off x="913680" y="3505320"/>
            <a:ext cx="1598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direction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 flipV="1">
            <a:off x="2133720" y="304776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direct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rect addressing is denoted by an indirection b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0 - direct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 - indirect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use in branch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rget address will cover larger address space depending on the width of the main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t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Group 5"/>
          <p:cNvGrpSpPr/>
          <p:nvPr/>
        </p:nvGrpSpPr>
        <p:grpSpPr>
          <a:xfrm>
            <a:off x="533520" y="2365200"/>
            <a:ext cx="4722840" cy="605160"/>
            <a:chOff x="533520" y="2365200"/>
            <a:chExt cx="4722840" cy="605160"/>
          </a:xfrm>
        </p:grpSpPr>
        <p:sp>
          <p:nvSpPr>
            <p:cNvPr id="715" name="Rectangle 6"/>
            <p:cNvSpPr/>
            <p:nvPr/>
          </p:nvSpPr>
          <p:spPr>
            <a:xfrm>
              <a:off x="533520" y="2365200"/>
              <a:ext cx="4722840" cy="605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7"/>
            <p:cNvSpPr/>
            <p:nvPr/>
          </p:nvSpPr>
          <p:spPr>
            <a:xfrm>
              <a:off x="1523880" y="2373480"/>
              <a:ext cx="0" cy="59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Rectangle 8"/>
          <p:cNvSpPr/>
          <p:nvPr/>
        </p:nvSpPr>
        <p:spPr>
          <a:xfrm>
            <a:off x="2666880" y="2441520"/>
            <a:ext cx="638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9"/>
          <p:cNvSpPr/>
          <p:nvPr/>
        </p:nvSpPr>
        <p:spPr>
          <a:xfrm>
            <a:off x="456840" y="24415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0"/>
          <p:cNvSpPr/>
          <p:nvPr/>
        </p:nvSpPr>
        <p:spPr>
          <a:xfrm>
            <a:off x="1213200" y="1905120"/>
            <a:ext cx="343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direct branch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1"/>
          <p:cNvSpPr/>
          <p:nvPr/>
        </p:nvSpPr>
        <p:spPr>
          <a:xfrm>
            <a:off x="5486400" y="32796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2"/>
          <p:cNvSpPr/>
          <p:nvPr/>
        </p:nvSpPr>
        <p:spPr>
          <a:xfrm>
            <a:off x="5486400" y="39654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3"/>
          <p:cNvSpPr/>
          <p:nvPr/>
        </p:nvSpPr>
        <p:spPr>
          <a:xfrm>
            <a:off x="5486400" y="46512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4"/>
          <p:cNvSpPr/>
          <p:nvPr/>
        </p:nvSpPr>
        <p:spPr>
          <a:xfrm>
            <a:off x="5486400" y="53370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15"/>
          <p:cNvSpPr/>
          <p:nvPr/>
        </p:nvSpPr>
        <p:spPr>
          <a:xfrm>
            <a:off x="5486400" y="602280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16"/>
          <p:cNvSpPr/>
          <p:nvPr/>
        </p:nvSpPr>
        <p:spPr>
          <a:xfrm>
            <a:off x="6092640" y="2057400"/>
            <a:ext cx="165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Freeform 17"/>
          <p:cNvSpPr/>
          <p:nvPr/>
        </p:nvSpPr>
        <p:spPr>
          <a:xfrm>
            <a:off x="2895480" y="2971800"/>
            <a:ext cx="2590920" cy="6508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8"/>
          <p:cNvSpPr/>
          <p:nvPr/>
        </p:nvSpPr>
        <p:spPr>
          <a:xfrm>
            <a:off x="6015960" y="3429000"/>
            <a:ext cx="167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arget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Freeform 19"/>
          <p:cNvSpPr/>
          <p:nvPr/>
        </p:nvSpPr>
        <p:spPr>
          <a:xfrm>
            <a:off x="8075520" y="3621240"/>
            <a:ext cx="230400" cy="13730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20"/>
          <p:cNvSpPr/>
          <p:nvPr/>
        </p:nvSpPr>
        <p:spPr>
          <a:xfrm>
            <a:off x="2894400" y="3048120"/>
            <a:ext cx="158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ranch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21"/>
          <p:cNvSpPr/>
          <p:nvPr/>
        </p:nvSpPr>
        <p:spPr>
          <a:xfrm>
            <a:off x="5486400" y="259092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3805920" y="4876920"/>
            <a:ext cx="167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arget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23"/>
          <p:cNvSpPr/>
          <p:nvPr/>
        </p:nvSpPr>
        <p:spPr>
          <a:xfrm>
            <a:off x="5862240" y="4876920"/>
            <a:ext cx="1999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Target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24"/>
          <p:cNvSpPr/>
          <p:nvPr/>
        </p:nvSpPr>
        <p:spPr>
          <a:xfrm>
            <a:off x="4952880" y="3352680"/>
            <a:ext cx="524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gister Indirect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e with:  indirect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 = (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nd is in memory cell pointed to by contents of register 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address space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fewer memory access than indirect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gister Indirect Addressing Diagr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741" name="Group 5"/>
          <p:cNvGrpSpPr/>
          <p:nvPr/>
        </p:nvGrpSpPr>
        <p:grpSpPr>
          <a:xfrm>
            <a:off x="1454040" y="1905120"/>
            <a:ext cx="4722840" cy="604800"/>
            <a:chOff x="1454040" y="1905120"/>
            <a:chExt cx="4722840" cy="604800"/>
          </a:xfrm>
        </p:grpSpPr>
        <p:sp>
          <p:nvSpPr>
            <p:cNvPr id="742" name="Rectangle 6"/>
            <p:cNvSpPr/>
            <p:nvPr/>
          </p:nvSpPr>
          <p:spPr>
            <a:xfrm>
              <a:off x="1454040" y="1905120"/>
              <a:ext cx="4722840" cy="60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7"/>
            <p:cNvSpPr/>
            <p:nvPr/>
          </p:nvSpPr>
          <p:spPr>
            <a:xfrm>
              <a:off x="2444760" y="1912680"/>
              <a:ext cx="0" cy="59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Rectangle 8"/>
          <p:cNvSpPr/>
          <p:nvPr/>
        </p:nvSpPr>
        <p:spPr>
          <a:xfrm>
            <a:off x="3013200" y="1981080"/>
            <a:ext cx="255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gister Addres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1377720" y="198108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10"/>
          <p:cNvSpPr/>
          <p:nvPr/>
        </p:nvSpPr>
        <p:spPr>
          <a:xfrm>
            <a:off x="3127680" y="144792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6407280" y="2741760"/>
            <a:ext cx="258732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6407280" y="3427560"/>
            <a:ext cx="258732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6407280" y="4113360"/>
            <a:ext cx="258732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6407280" y="4799160"/>
            <a:ext cx="258732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15"/>
          <p:cNvSpPr/>
          <p:nvPr/>
        </p:nvSpPr>
        <p:spPr>
          <a:xfrm>
            <a:off x="6407280" y="5484960"/>
            <a:ext cx="258732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16"/>
          <p:cNvSpPr/>
          <p:nvPr/>
        </p:nvSpPr>
        <p:spPr>
          <a:xfrm>
            <a:off x="6939360" y="220824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17"/>
          <p:cNvSpPr/>
          <p:nvPr/>
        </p:nvSpPr>
        <p:spPr>
          <a:xfrm>
            <a:off x="7092360" y="426564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18"/>
          <p:cNvSpPr/>
          <p:nvPr/>
        </p:nvSpPr>
        <p:spPr>
          <a:xfrm>
            <a:off x="1454040" y="34290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19"/>
          <p:cNvSpPr/>
          <p:nvPr/>
        </p:nvSpPr>
        <p:spPr>
          <a:xfrm>
            <a:off x="1454040" y="41148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Rectangle 20"/>
          <p:cNvSpPr/>
          <p:nvPr/>
        </p:nvSpPr>
        <p:spPr>
          <a:xfrm>
            <a:off x="1454040" y="48006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Rectangle 21"/>
          <p:cNvSpPr/>
          <p:nvPr/>
        </p:nvSpPr>
        <p:spPr>
          <a:xfrm>
            <a:off x="1454040" y="54864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22"/>
          <p:cNvSpPr/>
          <p:nvPr/>
        </p:nvSpPr>
        <p:spPr>
          <a:xfrm>
            <a:off x="1527840" y="4267080"/>
            <a:ext cx="250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3"/>
          <p:cNvSpPr/>
          <p:nvPr/>
        </p:nvSpPr>
        <p:spPr>
          <a:xfrm>
            <a:off x="3433680" y="2521080"/>
            <a:ext cx="0" cy="51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4"/>
          <p:cNvSpPr/>
          <p:nvPr/>
        </p:nvSpPr>
        <p:spPr>
          <a:xfrm flipH="1">
            <a:off x="685440" y="3046320"/>
            <a:ext cx="275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25"/>
          <p:cNvSpPr/>
          <p:nvPr/>
        </p:nvSpPr>
        <p:spPr>
          <a:xfrm>
            <a:off x="2138040" y="3048120"/>
            <a:ext cx="131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reeform 26"/>
          <p:cNvSpPr/>
          <p:nvPr/>
        </p:nvSpPr>
        <p:spPr>
          <a:xfrm>
            <a:off x="690480" y="3046320"/>
            <a:ext cx="763560" cy="14115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27"/>
          <p:cNvSpPr/>
          <p:nvPr/>
        </p:nvSpPr>
        <p:spPr>
          <a:xfrm>
            <a:off x="4043520" y="44179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eindexed-indirect referenc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5" name="Rectangle 3"/>
          <p:cNvSpPr/>
          <p:nvPr/>
        </p:nvSpPr>
        <p:spPr>
          <a:xfrm>
            <a:off x="1170000" y="2287440"/>
            <a:ext cx="4722840" cy="6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4"/>
          <p:cNvSpPr/>
          <p:nvPr/>
        </p:nvSpPr>
        <p:spPr>
          <a:xfrm>
            <a:off x="2160720" y="229536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228600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1372320" y="236232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6095880" y="3200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8"/>
          <p:cNvSpPr/>
          <p:nvPr/>
        </p:nvSpPr>
        <p:spPr>
          <a:xfrm>
            <a:off x="6095880" y="3581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9"/>
          <p:cNvSpPr/>
          <p:nvPr/>
        </p:nvSpPr>
        <p:spPr>
          <a:xfrm>
            <a:off x="6095880" y="3962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10"/>
          <p:cNvSpPr/>
          <p:nvPr/>
        </p:nvSpPr>
        <p:spPr>
          <a:xfrm>
            <a:off x="6095880" y="4343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11"/>
          <p:cNvSpPr/>
          <p:nvPr/>
        </p:nvSpPr>
        <p:spPr>
          <a:xfrm>
            <a:off x="6095880" y="4724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12"/>
          <p:cNvSpPr/>
          <p:nvPr/>
        </p:nvSpPr>
        <p:spPr>
          <a:xfrm>
            <a:off x="6655320" y="266868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13"/>
          <p:cNvSpPr/>
          <p:nvPr/>
        </p:nvSpPr>
        <p:spPr>
          <a:xfrm>
            <a:off x="6780960" y="4343400"/>
            <a:ext cx="171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14"/>
          <p:cNvSpPr/>
          <p:nvPr/>
        </p:nvSpPr>
        <p:spPr>
          <a:xfrm>
            <a:off x="1143000" y="3809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15"/>
          <p:cNvSpPr/>
          <p:nvPr/>
        </p:nvSpPr>
        <p:spPr>
          <a:xfrm>
            <a:off x="1244160" y="4649760"/>
            <a:ext cx="192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16"/>
          <p:cNvSpPr/>
          <p:nvPr/>
        </p:nvSpPr>
        <p:spPr>
          <a:xfrm>
            <a:off x="2819520" y="28954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17"/>
          <p:cNvSpPr/>
          <p:nvPr/>
        </p:nvSpPr>
        <p:spPr>
          <a:xfrm flipH="1">
            <a:off x="401760" y="3429000"/>
            <a:ext cx="241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18"/>
          <p:cNvSpPr/>
          <p:nvPr/>
        </p:nvSpPr>
        <p:spPr>
          <a:xfrm>
            <a:off x="1598760" y="3505320"/>
            <a:ext cx="161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dex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Freeform 19"/>
          <p:cNvSpPr/>
          <p:nvPr/>
        </p:nvSpPr>
        <p:spPr>
          <a:xfrm>
            <a:off x="406440" y="3429000"/>
            <a:ext cx="507960" cy="1447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20"/>
          <p:cNvSpPr/>
          <p:nvPr/>
        </p:nvSpPr>
        <p:spPr>
          <a:xfrm>
            <a:off x="2666880" y="22860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21"/>
          <p:cNvSpPr/>
          <p:nvPr/>
        </p:nvSpPr>
        <p:spPr>
          <a:xfrm>
            <a:off x="4035600" y="236232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isplacemen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22"/>
          <p:cNvSpPr/>
          <p:nvPr/>
        </p:nvSpPr>
        <p:spPr>
          <a:xfrm>
            <a:off x="4522680" y="4573440"/>
            <a:ext cx="530280" cy="454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23"/>
          <p:cNvSpPr/>
          <p:nvPr/>
        </p:nvSpPr>
        <p:spPr>
          <a:xfrm>
            <a:off x="4623840" y="45734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Freeform 24"/>
          <p:cNvSpPr/>
          <p:nvPr/>
        </p:nvSpPr>
        <p:spPr>
          <a:xfrm>
            <a:off x="3746520" y="4800600"/>
            <a:ext cx="776160" cy="77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25"/>
          <p:cNvSpPr/>
          <p:nvPr/>
        </p:nvSpPr>
        <p:spPr>
          <a:xfrm>
            <a:off x="4749840" y="2903400"/>
            <a:ext cx="0" cy="16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Freeform 26"/>
          <p:cNvSpPr/>
          <p:nvPr/>
        </p:nvSpPr>
        <p:spPr>
          <a:xfrm flipV="1">
            <a:off x="5105520" y="4571280"/>
            <a:ext cx="990360" cy="150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27"/>
          <p:cNvSpPr/>
          <p:nvPr/>
        </p:nvSpPr>
        <p:spPr>
          <a:xfrm>
            <a:off x="3581280" y="22860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28"/>
          <p:cNvSpPr/>
          <p:nvPr/>
        </p:nvSpPr>
        <p:spPr>
          <a:xfrm>
            <a:off x="1143000" y="4038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Rectangle 29"/>
          <p:cNvSpPr/>
          <p:nvPr/>
        </p:nvSpPr>
        <p:spPr>
          <a:xfrm>
            <a:off x="1143000" y="42670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Rectangle 30"/>
          <p:cNvSpPr/>
          <p:nvPr/>
        </p:nvSpPr>
        <p:spPr>
          <a:xfrm>
            <a:off x="1143000" y="44956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31"/>
          <p:cNvSpPr/>
          <p:nvPr/>
        </p:nvSpPr>
        <p:spPr>
          <a:xfrm>
            <a:off x="1143000" y="47242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32"/>
          <p:cNvSpPr/>
          <p:nvPr/>
        </p:nvSpPr>
        <p:spPr>
          <a:xfrm>
            <a:off x="1143000" y="4952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33"/>
          <p:cNvSpPr/>
          <p:nvPr/>
        </p:nvSpPr>
        <p:spPr>
          <a:xfrm>
            <a:off x="1143000" y="5181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34"/>
          <p:cNvSpPr/>
          <p:nvPr/>
        </p:nvSpPr>
        <p:spPr>
          <a:xfrm>
            <a:off x="1143000" y="54100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5"/>
          <p:cNvSpPr/>
          <p:nvPr/>
        </p:nvSpPr>
        <p:spPr>
          <a:xfrm>
            <a:off x="915840" y="3733920"/>
            <a:ext cx="28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36"/>
          <p:cNvSpPr/>
          <p:nvPr/>
        </p:nvSpPr>
        <p:spPr>
          <a:xfrm>
            <a:off x="6095880" y="5105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37"/>
          <p:cNvSpPr/>
          <p:nvPr/>
        </p:nvSpPr>
        <p:spPr>
          <a:xfrm>
            <a:off x="6095880" y="5486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8"/>
          <p:cNvSpPr/>
          <p:nvPr/>
        </p:nvSpPr>
        <p:spPr>
          <a:xfrm>
            <a:off x="6095880" y="5867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39"/>
          <p:cNvSpPr/>
          <p:nvPr/>
        </p:nvSpPr>
        <p:spPr>
          <a:xfrm>
            <a:off x="6933960" y="5486400"/>
            <a:ext cx="96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40"/>
          <p:cNvSpPr/>
          <p:nvPr/>
        </p:nvSpPr>
        <p:spPr>
          <a:xfrm>
            <a:off x="868680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41"/>
          <p:cNvSpPr/>
          <p:nvPr/>
        </p:nvSpPr>
        <p:spPr>
          <a:xfrm>
            <a:off x="8915400" y="4495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42"/>
          <p:cNvSpPr/>
          <p:nvPr/>
        </p:nvSpPr>
        <p:spPr>
          <a:xfrm flipH="1">
            <a:off x="868644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43"/>
          <p:cNvSpPr/>
          <p:nvPr/>
        </p:nvSpPr>
        <p:spPr>
          <a:xfrm>
            <a:off x="2843640" y="183024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44"/>
          <p:cNvSpPr/>
          <p:nvPr/>
        </p:nvSpPr>
        <p:spPr>
          <a:xfrm>
            <a:off x="2728800" y="2327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ase-displacement addressing - without index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284472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1170000" y="2287440"/>
            <a:ext cx="4722840" cy="6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5"/>
          <p:cNvSpPr/>
          <p:nvPr/>
        </p:nvSpPr>
        <p:spPr>
          <a:xfrm>
            <a:off x="2160720" y="229536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6"/>
          <p:cNvSpPr/>
          <p:nvPr/>
        </p:nvSpPr>
        <p:spPr>
          <a:xfrm>
            <a:off x="2666880" y="23623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1372320" y="236232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8"/>
          <p:cNvSpPr/>
          <p:nvPr/>
        </p:nvSpPr>
        <p:spPr>
          <a:xfrm>
            <a:off x="6095880" y="3200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9"/>
          <p:cNvSpPr/>
          <p:nvPr/>
        </p:nvSpPr>
        <p:spPr>
          <a:xfrm>
            <a:off x="6095880" y="3581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0"/>
          <p:cNvSpPr/>
          <p:nvPr/>
        </p:nvSpPr>
        <p:spPr>
          <a:xfrm>
            <a:off x="6095880" y="3962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11"/>
          <p:cNvSpPr/>
          <p:nvPr/>
        </p:nvSpPr>
        <p:spPr>
          <a:xfrm>
            <a:off x="6095880" y="4343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12"/>
          <p:cNvSpPr/>
          <p:nvPr/>
        </p:nvSpPr>
        <p:spPr>
          <a:xfrm>
            <a:off x="6095880" y="4724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13"/>
          <p:cNvSpPr/>
          <p:nvPr/>
        </p:nvSpPr>
        <p:spPr>
          <a:xfrm>
            <a:off x="6652800" y="2668680"/>
            <a:ext cx="165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4"/>
          <p:cNvSpPr/>
          <p:nvPr/>
        </p:nvSpPr>
        <p:spPr>
          <a:xfrm>
            <a:off x="6855480" y="4267080"/>
            <a:ext cx="106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15"/>
          <p:cNvSpPr/>
          <p:nvPr/>
        </p:nvSpPr>
        <p:spPr>
          <a:xfrm>
            <a:off x="1143000" y="3809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16"/>
          <p:cNvSpPr/>
          <p:nvPr/>
        </p:nvSpPr>
        <p:spPr>
          <a:xfrm>
            <a:off x="1244160" y="4649760"/>
            <a:ext cx="192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17"/>
          <p:cNvSpPr/>
          <p:nvPr/>
        </p:nvSpPr>
        <p:spPr>
          <a:xfrm>
            <a:off x="2895480" y="289548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18"/>
          <p:cNvSpPr/>
          <p:nvPr/>
        </p:nvSpPr>
        <p:spPr>
          <a:xfrm flipH="1">
            <a:off x="401400" y="3429000"/>
            <a:ext cx="249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19"/>
          <p:cNvSpPr/>
          <p:nvPr/>
        </p:nvSpPr>
        <p:spPr>
          <a:xfrm>
            <a:off x="1599120" y="3505320"/>
            <a:ext cx="153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ase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Freeform 20"/>
          <p:cNvSpPr/>
          <p:nvPr/>
        </p:nvSpPr>
        <p:spPr>
          <a:xfrm>
            <a:off x="406440" y="3429000"/>
            <a:ext cx="507960" cy="1447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Line 21"/>
          <p:cNvSpPr/>
          <p:nvPr/>
        </p:nvSpPr>
        <p:spPr>
          <a:xfrm>
            <a:off x="2666880" y="22860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22"/>
          <p:cNvSpPr/>
          <p:nvPr/>
        </p:nvSpPr>
        <p:spPr>
          <a:xfrm>
            <a:off x="4648320" y="23623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Oval 23"/>
          <p:cNvSpPr/>
          <p:nvPr/>
        </p:nvSpPr>
        <p:spPr>
          <a:xfrm>
            <a:off x="4522680" y="4573440"/>
            <a:ext cx="530280" cy="454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24"/>
          <p:cNvSpPr/>
          <p:nvPr/>
        </p:nvSpPr>
        <p:spPr>
          <a:xfrm>
            <a:off x="4623840" y="45734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reeform 25"/>
          <p:cNvSpPr/>
          <p:nvPr/>
        </p:nvSpPr>
        <p:spPr>
          <a:xfrm>
            <a:off x="3746520" y="4800600"/>
            <a:ext cx="776160" cy="77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Line 26"/>
          <p:cNvSpPr/>
          <p:nvPr/>
        </p:nvSpPr>
        <p:spPr>
          <a:xfrm>
            <a:off x="4749840" y="2903400"/>
            <a:ext cx="0" cy="16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Freeform 27"/>
          <p:cNvSpPr/>
          <p:nvPr/>
        </p:nvSpPr>
        <p:spPr>
          <a:xfrm flipV="1">
            <a:off x="5105520" y="4571280"/>
            <a:ext cx="990360" cy="150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Line 28"/>
          <p:cNvSpPr/>
          <p:nvPr/>
        </p:nvSpPr>
        <p:spPr>
          <a:xfrm>
            <a:off x="3124080" y="22860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29"/>
          <p:cNvSpPr/>
          <p:nvPr/>
        </p:nvSpPr>
        <p:spPr>
          <a:xfrm>
            <a:off x="1143000" y="4038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0"/>
          <p:cNvSpPr/>
          <p:nvPr/>
        </p:nvSpPr>
        <p:spPr>
          <a:xfrm>
            <a:off x="1143000" y="42670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31"/>
          <p:cNvSpPr/>
          <p:nvPr/>
        </p:nvSpPr>
        <p:spPr>
          <a:xfrm>
            <a:off x="1143000" y="44956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32"/>
          <p:cNvSpPr/>
          <p:nvPr/>
        </p:nvSpPr>
        <p:spPr>
          <a:xfrm>
            <a:off x="1143000" y="47242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33"/>
          <p:cNvSpPr/>
          <p:nvPr/>
        </p:nvSpPr>
        <p:spPr>
          <a:xfrm>
            <a:off x="1143000" y="4952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4"/>
          <p:cNvSpPr/>
          <p:nvPr/>
        </p:nvSpPr>
        <p:spPr>
          <a:xfrm>
            <a:off x="1143000" y="5181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35"/>
          <p:cNvSpPr/>
          <p:nvPr/>
        </p:nvSpPr>
        <p:spPr>
          <a:xfrm>
            <a:off x="1143000" y="54100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36"/>
          <p:cNvSpPr/>
          <p:nvPr/>
        </p:nvSpPr>
        <p:spPr>
          <a:xfrm>
            <a:off x="915840" y="3733920"/>
            <a:ext cx="28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37"/>
          <p:cNvSpPr/>
          <p:nvPr/>
        </p:nvSpPr>
        <p:spPr>
          <a:xfrm>
            <a:off x="6095880" y="5105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38"/>
          <p:cNvSpPr/>
          <p:nvPr/>
        </p:nvSpPr>
        <p:spPr>
          <a:xfrm>
            <a:off x="6095880" y="548640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39"/>
          <p:cNvSpPr/>
          <p:nvPr/>
        </p:nvSpPr>
        <p:spPr>
          <a:xfrm>
            <a:off x="6095880" y="586728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40"/>
          <p:cNvSpPr/>
          <p:nvPr/>
        </p:nvSpPr>
        <p:spPr>
          <a:xfrm>
            <a:off x="3197520" y="182880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41"/>
          <p:cNvSpPr/>
          <p:nvPr/>
        </p:nvSpPr>
        <p:spPr>
          <a:xfrm>
            <a:off x="4038480" y="22860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42"/>
          <p:cNvSpPr/>
          <p:nvPr/>
        </p:nvSpPr>
        <p:spPr>
          <a:xfrm>
            <a:off x="4881960" y="426708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fective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Memory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common memory-addressing techniques are as follow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mediate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solute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exed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irect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dexed-indirect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e-displacement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C-relative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ck-register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o increment and auto decrement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-register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ase-displacement addressing - with index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1066680" y="1066680"/>
            <a:ext cx="4722840" cy="60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4"/>
          <p:cNvSpPr/>
          <p:nvPr/>
        </p:nvSpPr>
        <p:spPr>
          <a:xfrm>
            <a:off x="2057400" y="107460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5"/>
          <p:cNvSpPr/>
          <p:nvPr/>
        </p:nvSpPr>
        <p:spPr>
          <a:xfrm>
            <a:off x="2563920" y="114156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1269000" y="114156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5992920" y="197964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8"/>
          <p:cNvSpPr/>
          <p:nvPr/>
        </p:nvSpPr>
        <p:spPr>
          <a:xfrm>
            <a:off x="5992920" y="2360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5992920" y="274176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5992920" y="312264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5992920" y="3503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2"/>
          <p:cNvSpPr/>
          <p:nvPr/>
        </p:nvSpPr>
        <p:spPr>
          <a:xfrm>
            <a:off x="6549840" y="1447920"/>
            <a:ext cx="165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a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3"/>
          <p:cNvSpPr/>
          <p:nvPr/>
        </p:nvSpPr>
        <p:spPr>
          <a:xfrm>
            <a:off x="6754320" y="3046320"/>
            <a:ext cx="969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14"/>
          <p:cNvSpPr/>
          <p:nvPr/>
        </p:nvSpPr>
        <p:spPr>
          <a:xfrm>
            <a:off x="1039680" y="25891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15"/>
          <p:cNvSpPr/>
          <p:nvPr/>
        </p:nvSpPr>
        <p:spPr>
          <a:xfrm>
            <a:off x="1141200" y="3429000"/>
            <a:ext cx="192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6"/>
          <p:cNvSpPr/>
          <p:nvPr/>
        </p:nvSpPr>
        <p:spPr>
          <a:xfrm>
            <a:off x="2792520" y="167472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7"/>
          <p:cNvSpPr/>
          <p:nvPr/>
        </p:nvSpPr>
        <p:spPr>
          <a:xfrm flipH="1">
            <a:off x="298440" y="2208240"/>
            <a:ext cx="249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18"/>
          <p:cNvSpPr/>
          <p:nvPr/>
        </p:nvSpPr>
        <p:spPr>
          <a:xfrm>
            <a:off x="1495800" y="2284560"/>
            <a:ext cx="153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ase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Freeform 19"/>
          <p:cNvSpPr/>
          <p:nvPr/>
        </p:nvSpPr>
        <p:spPr>
          <a:xfrm>
            <a:off x="303120" y="2208240"/>
            <a:ext cx="507960" cy="144792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20"/>
          <p:cNvSpPr/>
          <p:nvPr/>
        </p:nvSpPr>
        <p:spPr>
          <a:xfrm>
            <a:off x="2563920" y="106524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21"/>
          <p:cNvSpPr/>
          <p:nvPr/>
        </p:nvSpPr>
        <p:spPr>
          <a:xfrm>
            <a:off x="4545360" y="114156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2"/>
          <p:cNvSpPr/>
          <p:nvPr/>
        </p:nvSpPr>
        <p:spPr>
          <a:xfrm>
            <a:off x="4419720" y="3352680"/>
            <a:ext cx="530280" cy="454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23"/>
          <p:cNvSpPr/>
          <p:nvPr/>
        </p:nvSpPr>
        <p:spPr>
          <a:xfrm>
            <a:off x="4520880" y="335268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Freeform 24"/>
          <p:cNvSpPr/>
          <p:nvPr/>
        </p:nvSpPr>
        <p:spPr>
          <a:xfrm>
            <a:off x="3643200" y="3579840"/>
            <a:ext cx="776520" cy="777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25"/>
          <p:cNvSpPr/>
          <p:nvPr/>
        </p:nvSpPr>
        <p:spPr>
          <a:xfrm>
            <a:off x="4646520" y="1682640"/>
            <a:ext cx="0" cy="16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Freeform 26"/>
          <p:cNvSpPr/>
          <p:nvPr/>
        </p:nvSpPr>
        <p:spPr>
          <a:xfrm flipV="1">
            <a:off x="5002200" y="3350520"/>
            <a:ext cx="990720" cy="15084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27"/>
          <p:cNvSpPr/>
          <p:nvPr/>
        </p:nvSpPr>
        <p:spPr>
          <a:xfrm>
            <a:off x="3021120" y="106524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28"/>
          <p:cNvSpPr/>
          <p:nvPr/>
        </p:nvSpPr>
        <p:spPr>
          <a:xfrm>
            <a:off x="1039680" y="28177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29"/>
          <p:cNvSpPr/>
          <p:nvPr/>
        </p:nvSpPr>
        <p:spPr>
          <a:xfrm>
            <a:off x="1039680" y="30463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30"/>
          <p:cNvSpPr/>
          <p:nvPr/>
        </p:nvSpPr>
        <p:spPr>
          <a:xfrm>
            <a:off x="1039680" y="32749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31"/>
          <p:cNvSpPr/>
          <p:nvPr/>
        </p:nvSpPr>
        <p:spPr>
          <a:xfrm>
            <a:off x="1039680" y="35035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32"/>
          <p:cNvSpPr/>
          <p:nvPr/>
        </p:nvSpPr>
        <p:spPr>
          <a:xfrm>
            <a:off x="1039680" y="37321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33"/>
          <p:cNvSpPr/>
          <p:nvPr/>
        </p:nvSpPr>
        <p:spPr>
          <a:xfrm>
            <a:off x="1039680" y="39607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34"/>
          <p:cNvSpPr/>
          <p:nvPr/>
        </p:nvSpPr>
        <p:spPr>
          <a:xfrm>
            <a:off x="1039680" y="418932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5"/>
          <p:cNvSpPr/>
          <p:nvPr/>
        </p:nvSpPr>
        <p:spPr>
          <a:xfrm>
            <a:off x="812520" y="2513160"/>
            <a:ext cx="28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36"/>
          <p:cNvSpPr/>
          <p:nvPr/>
        </p:nvSpPr>
        <p:spPr>
          <a:xfrm>
            <a:off x="5992920" y="388476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37"/>
          <p:cNvSpPr/>
          <p:nvPr/>
        </p:nvSpPr>
        <p:spPr>
          <a:xfrm>
            <a:off x="5992920" y="426564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38"/>
          <p:cNvSpPr/>
          <p:nvPr/>
        </p:nvSpPr>
        <p:spPr>
          <a:xfrm>
            <a:off x="5992920" y="4646520"/>
            <a:ext cx="2587680" cy="37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39"/>
          <p:cNvSpPr/>
          <p:nvPr/>
        </p:nvSpPr>
        <p:spPr>
          <a:xfrm>
            <a:off x="3094560" y="60804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Line 40"/>
          <p:cNvSpPr/>
          <p:nvPr/>
        </p:nvSpPr>
        <p:spPr>
          <a:xfrm>
            <a:off x="3935520" y="1065240"/>
            <a:ext cx="0" cy="59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41"/>
          <p:cNvSpPr/>
          <p:nvPr/>
        </p:nvSpPr>
        <p:spPr>
          <a:xfrm>
            <a:off x="1219320" y="48862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42"/>
          <p:cNvSpPr/>
          <p:nvPr/>
        </p:nvSpPr>
        <p:spPr>
          <a:xfrm>
            <a:off x="1320480" y="5726160"/>
            <a:ext cx="1924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Pointer to Oper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43"/>
          <p:cNvSpPr/>
          <p:nvPr/>
        </p:nvSpPr>
        <p:spPr>
          <a:xfrm>
            <a:off x="2286000" y="1676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Line 44"/>
          <p:cNvSpPr/>
          <p:nvPr/>
        </p:nvSpPr>
        <p:spPr>
          <a:xfrm flipH="1">
            <a:off x="151920" y="18288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45"/>
          <p:cNvSpPr/>
          <p:nvPr/>
        </p:nvSpPr>
        <p:spPr>
          <a:xfrm>
            <a:off x="1675080" y="4581360"/>
            <a:ext cx="161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dex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Freeform 46"/>
          <p:cNvSpPr/>
          <p:nvPr/>
        </p:nvSpPr>
        <p:spPr>
          <a:xfrm>
            <a:off x="152280" y="1828800"/>
            <a:ext cx="838440" cy="366696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47"/>
          <p:cNvSpPr/>
          <p:nvPr/>
        </p:nvSpPr>
        <p:spPr>
          <a:xfrm>
            <a:off x="1219320" y="5114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48"/>
          <p:cNvSpPr/>
          <p:nvPr/>
        </p:nvSpPr>
        <p:spPr>
          <a:xfrm>
            <a:off x="1219320" y="5343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49"/>
          <p:cNvSpPr/>
          <p:nvPr/>
        </p:nvSpPr>
        <p:spPr>
          <a:xfrm>
            <a:off x="1219320" y="55720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50"/>
          <p:cNvSpPr/>
          <p:nvPr/>
        </p:nvSpPr>
        <p:spPr>
          <a:xfrm>
            <a:off x="1219320" y="58006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51"/>
          <p:cNvSpPr/>
          <p:nvPr/>
        </p:nvSpPr>
        <p:spPr>
          <a:xfrm>
            <a:off x="1219320" y="60292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52"/>
          <p:cNvSpPr/>
          <p:nvPr/>
        </p:nvSpPr>
        <p:spPr>
          <a:xfrm>
            <a:off x="1219320" y="62578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53"/>
          <p:cNvSpPr/>
          <p:nvPr/>
        </p:nvSpPr>
        <p:spPr>
          <a:xfrm>
            <a:off x="1219320" y="6486480"/>
            <a:ext cx="2587680" cy="22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4"/>
          <p:cNvSpPr/>
          <p:nvPr/>
        </p:nvSpPr>
        <p:spPr>
          <a:xfrm>
            <a:off x="991800" y="4809960"/>
            <a:ext cx="2829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Line 55"/>
          <p:cNvSpPr/>
          <p:nvPr/>
        </p:nvSpPr>
        <p:spPr>
          <a:xfrm>
            <a:off x="3809880" y="5486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Line 56"/>
          <p:cNvSpPr/>
          <p:nvPr/>
        </p:nvSpPr>
        <p:spPr>
          <a:xfrm flipV="1">
            <a:off x="4724280" y="38095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57"/>
          <p:cNvSpPr/>
          <p:nvPr/>
        </p:nvSpPr>
        <p:spPr>
          <a:xfrm>
            <a:off x="2133360" y="114300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8"/>
          <p:cNvSpPr/>
          <p:nvPr/>
        </p:nvSpPr>
        <p:spPr>
          <a:xfrm>
            <a:off x="4881960" y="312408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Efective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32040" bIns="320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t.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309960" indent="-2401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C - Relative Address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version of base-displacement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 = Program counter,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5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 = D + (PC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ck-register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nd is (implicitly) on top of st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52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 top two items from stack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ad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What leads to a good/bad ISA?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se of Implementation (Job of Architect/Design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 the ISA lead itself to efficient implementation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se of Programming (Job of Programmer/Compil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the compiler use the ISA effectivel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ture Compati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As may last 30+y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al Features, Address range, etc. need to be thought 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VAX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32-bit ISA, instructions could be huge (up to 321), 16 GP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Operated on data types from 8 to 128-bits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decimals, str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Orthogonal, memory-to-memory, all oper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modes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Hundreds of special instru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Simple compiler, hand-coding was comm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NewRoman"/>
              </a:rPr>
              <a:t>CPI was over 10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x86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length ISA (1-16 byte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P Operand St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 operand instructions (extended accumulato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-register and register-memory sup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aled addressing m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been extended many times (as AMD has recently done with x86-64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l, initially went to IA64, now backtrack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ISC vs RISC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instruction set comp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addressing modes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opera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duced instruction set comp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/store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instruc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Comparison of processor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Tahoma"/>
              </a:rPr>
              <a:t>CISC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Tahoma"/>
              </a:rPr>
              <a:t>RISC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1" lang="en-GB" sz="1400" spc="-1" strike="noStrike" u="sng">
                <a:solidFill>
                  <a:srgbClr val="000000"/>
                </a:solidFill>
                <a:uFillTx/>
                <a:latin typeface="Tahoma"/>
              </a:rPr>
              <a:t>Superscal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IBM             DEC VAX  Intel                       Motorola  MIPS                        IBM          Inte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370/168      11/780     486                         88000     R4000                       RS/6000    8096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973           1978        1989                       1988       1991                        1990          1989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No. of instructio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208              303        235                          51          94                           184             62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Instruction size (octets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2-6               2-57       1-11                         4           32                           4                4 or 8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Addressing mod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4                  22          11                            3            1                           2               11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GP Register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16                16           8                            32          32                          32             23-256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Control memory (k bytes) (microprogramming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9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420             480        246                             0            0                          0               0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duced-Instruction-Set Computers (RISCs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the early 1980s, several architects started investigating computers with simple ISAs, similar to that of CDC 6600. Computer scientists employed the term RISC, for reduced-instruction-set computers, to describe these machines. Although no definition is universally accepted, a RISC computer has most of the following propertie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1.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Instructions are conceptually simpl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2.Instructions are of a 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uniform length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3.Instructions use 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one (or very few) instruction formats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4.The instruction set is orthogonal (that is, there is little overlapping of instruction functionality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5.Instruction use 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one (or very few) addressing mode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6.The architecture is a 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load-and-store architectur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only load and store instructions reference memory; all operate instructions are register-to-register instructions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7.The ISA supports </a:t>
            </a:r>
            <a:r>
              <a:rPr b="0" lang="en-US" sz="1800" spc="-1" strike="noStrike">
                <a:solidFill>
                  <a:srgbClr val="ff6600"/>
                </a:solidFill>
                <a:latin typeface="Gill Sans MT"/>
              </a:rPr>
              <a:t>two (or a few more) datatypes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typically integer and floating point)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ISC-CISC Controvers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95560" indent="-228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re are two schools of thought on instruction-set design: one favors complex instruction sets, the other favors reduced instruction sets. </a:t>
            </a:r>
            <a:r>
              <a:rPr b="0" lang="en-US" sz="2200" spc="-1" strike="noStrike">
                <a:solidFill>
                  <a:srgbClr val="009900"/>
                </a:solidFill>
                <a:latin typeface="Gill Sans MT"/>
              </a:rPr>
              <a:t>Proponents of CISC architectures give many arguments in their favor, including the following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icher (more complex) instruction sets </a:t>
            </a: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improve the merit of the architecture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since operations implemented in microcode execute faster than operations implemented in software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icher instruction sets </a:t>
            </a: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do not increase the cos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of implementation (in dollars) over that of simpler instruction sets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e need for </a:t>
            </a: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upward compatibility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within a family results in an increase in the instruction-set size, and upward compatibility is easier to implement in  microcode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icher instruction sets </a:t>
            </a: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simplify compiler design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18040" indent="-191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 instructions sets make </a:t>
            </a:r>
            <a:r>
              <a:rPr b="0" lang="en-US" sz="2200" spc="-1" strike="noStrike">
                <a:solidFill>
                  <a:srgbClr val="ff3300"/>
                </a:solidFill>
                <a:latin typeface="Gill Sans MT"/>
              </a:rPr>
              <a:t>cloning of a computer more difficul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, thus protecting proprietary designs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/>
          </p:nvPr>
        </p:nvSpPr>
        <p:spPr>
          <a:xfrm>
            <a:off x="9907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06360" indent="-2372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of the reasons </a:t>
            </a:r>
            <a:r>
              <a:rPr b="0" lang="en-US" sz="2400" spc="-1" strike="noStrike">
                <a:solidFill>
                  <a:srgbClr val="009900"/>
                </a:solidFill>
                <a:latin typeface="Gill Sans MT"/>
              </a:rPr>
              <a:t>proponents give in favor of RISC architectures ar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basic hardware is simpl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so it can be cheaper and faster, more than compensating for the increased number of instructions required to perform some operation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Instruction caches easily compensate for the large number of bi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 the instructions required by a RISC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is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easier to compi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a RISC than for a CISC architectur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Design effor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and hence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development cost, for a RISC is l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an for a CISC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37120" indent="-1983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t is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easier to introduce parallelism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o the control unit of a RISC than a CISC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ossible addressing mod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84" name="Picture 3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74674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990360" y="457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the standpoint of designing a computer family, a designer must consider the following factors when deciding between a RISC or a CISC architectur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IS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uccessful and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too simp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it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invites plug-compatible competi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cloning)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the ISA is </a:t>
            </a:r>
            <a:r>
              <a:rPr b="0" lang="en-US" sz="2400" spc="-1" strike="noStrike">
                <a:solidFill>
                  <a:srgbClr val="ff3300"/>
                </a:solidFill>
                <a:latin typeface="Gill Sans MT"/>
              </a:rPr>
              <a:t>too comple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supercomputer and pipelined implementations may be impossi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the instruction encoding is too inefficient, large programs will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use excessive memor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memory bandwidth. The memory system and its connection to the CPU is an expensive component of computers. </a:t>
            </a:r>
            <a:r>
              <a:rPr b="0" lang="en-US" sz="2400" spc="-1" strike="noStrike">
                <a:solidFill>
                  <a:srgbClr val="ff9933"/>
                </a:solidFill>
                <a:latin typeface="Gill Sans MT"/>
              </a:rPr>
              <a:t>The increased memory bandwidth of a RISC may well make it more expensiv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negating a major RISC advantage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Controvers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Gill Sans MT"/>
              </a:rPr>
              <a:t>compar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9933"/>
                </a:solidFill>
                <a:latin typeface="Gill Sans MT"/>
              </a:rPr>
              <a:t>program sizes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GB" sz="2400" spc="-1" strike="noStrike">
                <a:solidFill>
                  <a:srgbClr val="ff9933"/>
                </a:solidFill>
                <a:latin typeface="Gill Sans MT"/>
              </a:rPr>
              <a:t>execution spee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examine </a:t>
            </a:r>
            <a:r>
              <a:rPr b="0" lang="en-GB" sz="2400" spc="-1" strike="noStrike">
                <a:solidFill>
                  <a:srgbClr val="ff3300"/>
                </a:solidFill>
                <a:latin typeface="Gill Sans MT"/>
              </a:rPr>
              <a:t>issues of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high level language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support and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use of VLSI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real est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No pair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f RISC and CISC that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are directly compar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No definitive set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of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test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Difficult to separate hardware effects</a:t>
            </a: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 from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compiler eff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Most commercial devices are </a:t>
            </a:r>
            <a:r>
              <a:rPr b="0" lang="en-GB" sz="2400" spc="-1" strike="noStrike">
                <a:solidFill>
                  <a:srgbClr val="ff6600"/>
                </a:solidFill>
                <a:latin typeface="Gill Sans MT"/>
              </a:rPr>
              <a:t>a mix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MIPS Architectur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storage order of wor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little-endian - store the little end of the word firs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processor organis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regis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where it stores infor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what it does in executing instruc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MIPS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all registers are 32-bi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PC (program counter) holds address of next instru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32 general purpose registers (can use name or number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nstruction set: load &amp; store, operations, jump &amp; branch, oth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MIPS ISA Design Principl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icity favors regula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 size instructions – 32-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ly three instruction forma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 design demands good compromi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ree instruction forma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is fas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instruction s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number of registers in register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number of addressing m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ke the common case fa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ithmetic operands from the register file (load-store machin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 instructions to contain immediate oper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972120" cy="720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he MIPS Instruction Forma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028520" y="762120"/>
            <a:ext cx="7962840" cy="64155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lnSpc>
                <a:spcPct val="6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 MIPS instructions are 32 bits long.  The three  instruction formats ar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-t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-t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-t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-203040">
              <a:lnSpc>
                <a:spcPct val="65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different fields ar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: operation of the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s, rt, rd: the source and destination register specifi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mt: shift amou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nct: selects the variant of the operation in the “op”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/ immediate: address offset or immediate val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190440">
              <a:lnSpc>
                <a:spcPct val="65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rget address: target address of the jump instructi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33" name="Group 4"/>
          <p:cNvGrpSpPr/>
          <p:nvPr/>
        </p:nvGrpSpPr>
        <p:grpSpPr>
          <a:xfrm>
            <a:off x="2498040" y="3122640"/>
            <a:ext cx="6307200" cy="945360"/>
            <a:chOff x="2498040" y="3122640"/>
            <a:chExt cx="6307200" cy="945360"/>
          </a:xfrm>
        </p:grpSpPr>
        <p:sp>
          <p:nvSpPr>
            <p:cNvPr id="934" name="Rectangle 5"/>
            <p:cNvSpPr/>
            <p:nvPr/>
          </p:nvSpPr>
          <p:spPr>
            <a:xfrm>
              <a:off x="2603520" y="3441600"/>
              <a:ext cx="6070680" cy="279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Group 6"/>
            <p:cNvGrpSpPr/>
            <p:nvPr/>
          </p:nvGrpSpPr>
          <p:grpSpPr>
            <a:xfrm>
              <a:off x="2597040" y="3427560"/>
              <a:ext cx="1054080" cy="335880"/>
              <a:chOff x="2597040" y="3427560"/>
              <a:chExt cx="1054080" cy="335880"/>
            </a:xfrm>
          </p:grpSpPr>
          <p:sp>
            <p:nvSpPr>
              <p:cNvPr id="936" name="Rectangle 7"/>
              <p:cNvSpPr/>
              <p:nvPr/>
            </p:nvSpPr>
            <p:spPr>
              <a:xfrm>
                <a:off x="2597040" y="3435480"/>
                <a:ext cx="1054080" cy="291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Rectangle 8"/>
              <p:cNvSpPr/>
              <p:nvPr/>
            </p:nvSpPr>
            <p:spPr>
              <a:xfrm>
                <a:off x="2907720" y="3427560"/>
                <a:ext cx="399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o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Rectangle 9"/>
            <p:cNvSpPr/>
            <p:nvPr/>
          </p:nvSpPr>
          <p:spPr>
            <a:xfrm>
              <a:off x="3664080" y="3435480"/>
              <a:ext cx="5016240" cy="29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Rectangle 10"/>
            <p:cNvSpPr/>
            <p:nvPr/>
          </p:nvSpPr>
          <p:spPr>
            <a:xfrm>
              <a:off x="5259960" y="3427560"/>
              <a:ext cx="14194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target 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11"/>
            <p:cNvSpPr/>
            <p:nvPr/>
          </p:nvSpPr>
          <p:spPr>
            <a:xfrm>
              <a:off x="8517960" y="312264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Rectangle 12"/>
            <p:cNvSpPr/>
            <p:nvPr/>
          </p:nvSpPr>
          <p:spPr>
            <a:xfrm>
              <a:off x="3336120" y="312264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Rectangle 13"/>
            <p:cNvSpPr/>
            <p:nvPr/>
          </p:nvSpPr>
          <p:spPr>
            <a:xfrm>
              <a:off x="2498040" y="312264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Rectangle 14"/>
            <p:cNvSpPr/>
            <p:nvPr/>
          </p:nvSpPr>
          <p:spPr>
            <a:xfrm>
              <a:off x="2879280" y="373212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Rectangle 15"/>
            <p:cNvSpPr/>
            <p:nvPr/>
          </p:nvSpPr>
          <p:spPr>
            <a:xfrm>
              <a:off x="5698440" y="3732120"/>
              <a:ext cx="733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Group 16"/>
          <p:cNvGrpSpPr/>
          <p:nvPr/>
        </p:nvGrpSpPr>
        <p:grpSpPr>
          <a:xfrm>
            <a:off x="2498040" y="1446120"/>
            <a:ext cx="6307200" cy="945720"/>
            <a:chOff x="2498040" y="1446120"/>
            <a:chExt cx="6307200" cy="945720"/>
          </a:xfrm>
        </p:grpSpPr>
        <p:grpSp>
          <p:nvGrpSpPr>
            <p:cNvPr id="946" name="Group 17"/>
            <p:cNvGrpSpPr/>
            <p:nvPr/>
          </p:nvGrpSpPr>
          <p:grpSpPr>
            <a:xfrm>
              <a:off x="2498040" y="1446120"/>
              <a:ext cx="6307200" cy="640800"/>
              <a:chOff x="2498040" y="1446120"/>
              <a:chExt cx="6307200" cy="640800"/>
            </a:xfrm>
          </p:grpSpPr>
          <p:grpSp>
            <p:nvGrpSpPr>
              <p:cNvPr id="947" name="Group 18"/>
              <p:cNvGrpSpPr/>
              <p:nvPr/>
            </p:nvGrpSpPr>
            <p:grpSpPr>
              <a:xfrm>
                <a:off x="2597040" y="1751040"/>
                <a:ext cx="6083280" cy="335880"/>
                <a:chOff x="2597040" y="1751040"/>
                <a:chExt cx="6083280" cy="335880"/>
              </a:xfrm>
            </p:grpSpPr>
            <p:sp>
              <p:nvSpPr>
                <p:cNvPr id="948" name="Rectangle 19"/>
                <p:cNvSpPr/>
                <p:nvPr/>
              </p:nvSpPr>
              <p:spPr>
                <a:xfrm>
                  <a:off x="2603520" y="1765440"/>
                  <a:ext cx="6070680" cy="27936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49" name="Group 20"/>
                <p:cNvGrpSpPr/>
                <p:nvPr/>
              </p:nvGrpSpPr>
              <p:grpSpPr>
                <a:xfrm>
                  <a:off x="2597040" y="1751040"/>
                  <a:ext cx="6083280" cy="335880"/>
                  <a:chOff x="2597040" y="1751040"/>
                  <a:chExt cx="6083280" cy="335880"/>
                </a:xfrm>
              </p:grpSpPr>
              <p:grpSp>
                <p:nvGrpSpPr>
                  <p:cNvPr id="950" name="Group 21"/>
                  <p:cNvGrpSpPr/>
                  <p:nvPr/>
                </p:nvGrpSpPr>
                <p:grpSpPr>
                  <a:xfrm>
                    <a:off x="2597040" y="1751040"/>
                    <a:ext cx="1054080" cy="335880"/>
                    <a:chOff x="2597040" y="1751040"/>
                    <a:chExt cx="1054080" cy="335880"/>
                  </a:xfrm>
                </p:grpSpPr>
                <p:sp>
                  <p:nvSpPr>
                    <p:cNvPr id="951" name="Rectangle 22"/>
                    <p:cNvSpPr/>
                    <p:nvPr/>
                  </p:nvSpPr>
                  <p:spPr>
                    <a:xfrm>
                      <a:off x="2597040" y="1758960"/>
                      <a:ext cx="105408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Rectangle 23"/>
                    <p:cNvSpPr/>
                    <p:nvPr/>
                  </p:nvSpPr>
                  <p:spPr>
                    <a:xfrm>
                      <a:off x="2907720" y="1751040"/>
                      <a:ext cx="39996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3" name="Group 24"/>
                  <p:cNvGrpSpPr/>
                  <p:nvPr/>
                </p:nvGrpSpPr>
                <p:grpSpPr>
                  <a:xfrm>
                    <a:off x="3664080" y="1751040"/>
                    <a:ext cx="977760" cy="335880"/>
                    <a:chOff x="3664080" y="1751040"/>
                    <a:chExt cx="977760" cy="335880"/>
                  </a:xfrm>
                </p:grpSpPr>
                <p:sp>
                  <p:nvSpPr>
                    <p:cNvPr id="954" name="Rectangle 25"/>
                    <p:cNvSpPr/>
                    <p:nvPr/>
                  </p:nvSpPr>
                  <p:spPr>
                    <a:xfrm>
                      <a:off x="3664080" y="1758960"/>
                      <a:ext cx="97776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Rectangle 26"/>
                    <p:cNvSpPr/>
                    <p:nvPr/>
                  </p:nvSpPr>
                  <p:spPr>
                    <a:xfrm>
                      <a:off x="3946680" y="1751040"/>
                      <a:ext cx="3542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6" name="Group 27"/>
                  <p:cNvGrpSpPr/>
                  <p:nvPr/>
                </p:nvGrpSpPr>
                <p:grpSpPr>
                  <a:xfrm>
                    <a:off x="4654440" y="1751040"/>
                    <a:ext cx="978120" cy="335880"/>
                    <a:chOff x="4654440" y="1751040"/>
                    <a:chExt cx="978120" cy="335880"/>
                  </a:xfrm>
                </p:grpSpPr>
                <p:sp>
                  <p:nvSpPr>
                    <p:cNvPr id="957" name="Rectangle 28"/>
                    <p:cNvSpPr/>
                    <p:nvPr/>
                  </p:nvSpPr>
                  <p:spPr>
                    <a:xfrm>
                      <a:off x="4654440" y="1758960"/>
                      <a:ext cx="97812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Rectangle 29"/>
                    <p:cNvSpPr/>
                    <p:nvPr/>
                  </p:nvSpPr>
                  <p:spPr>
                    <a:xfrm>
                      <a:off x="4936680" y="1751040"/>
                      <a:ext cx="34200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9" name="Group 30"/>
                  <p:cNvGrpSpPr/>
                  <p:nvPr/>
                </p:nvGrpSpPr>
                <p:grpSpPr>
                  <a:xfrm>
                    <a:off x="5645160" y="1751040"/>
                    <a:ext cx="977760" cy="335880"/>
                    <a:chOff x="5645160" y="1751040"/>
                    <a:chExt cx="977760" cy="335880"/>
                  </a:xfrm>
                </p:grpSpPr>
                <p:sp>
                  <p:nvSpPr>
                    <p:cNvPr id="960" name="Rectangle 31"/>
                    <p:cNvSpPr/>
                    <p:nvPr/>
                  </p:nvSpPr>
                  <p:spPr>
                    <a:xfrm>
                      <a:off x="5645160" y="1758960"/>
                      <a:ext cx="97776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Rectangle 32"/>
                    <p:cNvSpPr/>
                    <p:nvPr/>
                  </p:nvSpPr>
                  <p:spPr>
                    <a:xfrm>
                      <a:off x="5927760" y="1751040"/>
                      <a:ext cx="3877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2" name="Group 33"/>
                  <p:cNvGrpSpPr/>
                  <p:nvPr/>
                </p:nvGrpSpPr>
                <p:grpSpPr>
                  <a:xfrm>
                    <a:off x="6635880" y="1751040"/>
                    <a:ext cx="977760" cy="335880"/>
                    <a:chOff x="6635880" y="1751040"/>
                    <a:chExt cx="977760" cy="335880"/>
                  </a:xfrm>
                </p:grpSpPr>
                <p:sp>
                  <p:nvSpPr>
                    <p:cNvPr id="963" name="Rectangle 34"/>
                    <p:cNvSpPr/>
                    <p:nvPr/>
                  </p:nvSpPr>
                  <p:spPr>
                    <a:xfrm>
                      <a:off x="6635880" y="1758960"/>
                      <a:ext cx="97776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Rectangle 35"/>
                    <p:cNvSpPr/>
                    <p:nvPr/>
                  </p:nvSpPr>
                  <p:spPr>
                    <a:xfrm>
                      <a:off x="6765480" y="1751040"/>
                      <a:ext cx="7153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sh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5" name="Group 36"/>
                  <p:cNvGrpSpPr/>
                  <p:nvPr/>
                </p:nvGrpSpPr>
                <p:grpSpPr>
                  <a:xfrm>
                    <a:off x="7626240" y="1751040"/>
                    <a:ext cx="1054080" cy="335880"/>
                    <a:chOff x="7626240" y="1751040"/>
                    <a:chExt cx="1054080" cy="335880"/>
                  </a:xfrm>
                </p:grpSpPr>
                <p:sp>
                  <p:nvSpPr>
                    <p:cNvPr id="966" name="Rectangle 37"/>
                    <p:cNvSpPr/>
                    <p:nvPr/>
                  </p:nvSpPr>
                  <p:spPr>
                    <a:xfrm>
                      <a:off x="7626240" y="1758960"/>
                      <a:ext cx="1054080" cy="29196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Rectangle 38"/>
                    <p:cNvSpPr/>
                    <p:nvPr/>
                  </p:nvSpPr>
                  <p:spPr>
                    <a:xfrm>
                      <a:off x="7937640" y="1751040"/>
                      <a:ext cx="6346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ゴシック"/>
                        </a:rPr>
                        <a:t>fun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68" name="Rectangle 39"/>
              <p:cNvSpPr/>
              <p:nvPr/>
            </p:nvSpPr>
            <p:spPr>
              <a:xfrm>
                <a:off x="8517960" y="144612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Rectangle 40"/>
              <p:cNvSpPr/>
              <p:nvPr/>
            </p:nvSpPr>
            <p:spPr>
              <a:xfrm>
                <a:off x="7374960" y="1446120"/>
                <a:ext cx="2872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Rectangle 41"/>
              <p:cNvSpPr/>
              <p:nvPr/>
            </p:nvSpPr>
            <p:spPr>
              <a:xfrm>
                <a:off x="6307920" y="1446120"/>
                <a:ext cx="389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42"/>
              <p:cNvSpPr/>
              <p:nvPr/>
            </p:nvSpPr>
            <p:spPr>
              <a:xfrm>
                <a:off x="5317560" y="1446120"/>
                <a:ext cx="389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43"/>
              <p:cNvSpPr/>
              <p:nvPr/>
            </p:nvSpPr>
            <p:spPr>
              <a:xfrm>
                <a:off x="4326840" y="1446120"/>
                <a:ext cx="389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2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44"/>
              <p:cNvSpPr/>
              <p:nvPr/>
            </p:nvSpPr>
            <p:spPr>
              <a:xfrm>
                <a:off x="3336120" y="1446120"/>
                <a:ext cx="389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2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45"/>
              <p:cNvSpPr/>
              <p:nvPr/>
            </p:nvSpPr>
            <p:spPr>
              <a:xfrm>
                <a:off x="2498040" y="1446120"/>
                <a:ext cx="3891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3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5" name="Rectangle 46"/>
            <p:cNvSpPr/>
            <p:nvPr/>
          </p:nvSpPr>
          <p:spPr>
            <a:xfrm>
              <a:off x="287928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Rectangle 47"/>
            <p:cNvSpPr/>
            <p:nvPr/>
          </p:nvSpPr>
          <p:spPr>
            <a:xfrm>
              <a:off x="790848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Rectangle 48"/>
            <p:cNvSpPr/>
            <p:nvPr/>
          </p:nvSpPr>
          <p:spPr>
            <a:xfrm>
              <a:off x="684180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49"/>
            <p:cNvSpPr/>
            <p:nvPr/>
          </p:nvSpPr>
          <p:spPr>
            <a:xfrm>
              <a:off x="585108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Rectangle 50"/>
            <p:cNvSpPr/>
            <p:nvPr/>
          </p:nvSpPr>
          <p:spPr>
            <a:xfrm>
              <a:off x="486036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51"/>
            <p:cNvSpPr/>
            <p:nvPr/>
          </p:nvSpPr>
          <p:spPr>
            <a:xfrm>
              <a:off x="3870000" y="205596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Group 52"/>
          <p:cNvGrpSpPr/>
          <p:nvPr/>
        </p:nvGrpSpPr>
        <p:grpSpPr>
          <a:xfrm>
            <a:off x="2498040" y="2284560"/>
            <a:ext cx="6307200" cy="945360"/>
            <a:chOff x="2498040" y="2284560"/>
            <a:chExt cx="6307200" cy="945360"/>
          </a:xfrm>
        </p:grpSpPr>
        <p:sp>
          <p:nvSpPr>
            <p:cNvPr id="982" name="Rectangle 53"/>
            <p:cNvSpPr/>
            <p:nvPr/>
          </p:nvSpPr>
          <p:spPr>
            <a:xfrm>
              <a:off x="2603520" y="2603520"/>
              <a:ext cx="6070680" cy="279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3" name="Group 54"/>
            <p:cNvGrpSpPr/>
            <p:nvPr/>
          </p:nvGrpSpPr>
          <p:grpSpPr>
            <a:xfrm>
              <a:off x="2597040" y="2589120"/>
              <a:ext cx="1054080" cy="335880"/>
              <a:chOff x="2597040" y="2589120"/>
              <a:chExt cx="1054080" cy="335880"/>
            </a:xfrm>
          </p:grpSpPr>
          <p:sp>
            <p:nvSpPr>
              <p:cNvPr id="984" name="Rectangle 55"/>
              <p:cNvSpPr/>
              <p:nvPr/>
            </p:nvSpPr>
            <p:spPr>
              <a:xfrm>
                <a:off x="2597040" y="2597040"/>
                <a:ext cx="1054080" cy="292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Rectangle 56"/>
              <p:cNvSpPr/>
              <p:nvPr/>
            </p:nvSpPr>
            <p:spPr>
              <a:xfrm>
                <a:off x="2907720" y="2589120"/>
                <a:ext cx="39996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o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Group 57"/>
            <p:cNvGrpSpPr/>
            <p:nvPr/>
          </p:nvGrpSpPr>
          <p:grpSpPr>
            <a:xfrm>
              <a:off x="3664080" y="2589120"/>
              <a:ext cx="977760" cy="335880"/>
              <a:chOff x="3664080" y="2589120"/>
              <a:chExt cx="977760" cy="335880"/>
            </a:xfrm>
          </p:grpSpPr>
          <p:sp>
            <p:nvSpPr>
              <p:cNvPr id="987" name="Rectangle 58"/>
              <p:cNvSpPr/>
              <p:nvPr/>
            </p:nvSpPr>
            <p:spPr>
              <a:xfrm>
                <a:off x="3664080" y="2597040"/>
                <a:ext cx="977760" cy="292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Rectangle 59"/>
              <p:cNvSpPr/>
              <p:nvPr/>
            </p:nvSpPr>
            <p:spPr>
              <a:xfrm>
                <a:off x="3946680" y="2589120"/>
                <a:ext cx="354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9" name="Group 60"/>
            <p:cNvGrpSpPr/>
            <p:nvPr/>
          </p:nvGrpSpPr>
          <p:grpSpPr>
            <a:xfrm>
              <a:off x="4654440" y="2589120"/>
              <a:ext cx="978120" cy="335880"/>
              <a:chOff x="4654440" y="2589120"/>
              <a:chExt cx="978120" cy="335880"/>
            </a:xfrm>
          </p:grpSpPr>
          <p:sp>
            <p:nvSpPr>
              <p:cNvPr id="990" name="Rectangle 61"/>
              <p:cNvSpPr/>
              <p:nvPr/>
            </p:nvSpPr>
            <p:spPr>
              <a:xfrm>
                <a:off x="4654440" y="2597040"/>
                <a:ext cx="978120" cy="292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Rectangle 62"/>
              <p:cNvSpPr/>
              <p:nvPr/>
            </p:nvSpPr>
            <p:spPr>
              <a:xfrm>
                <a:off x="4936680" y="2589120"/>
                <a:ext cx="3420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  <a:ea typeface="ＭＳ ゴシック"/>
                  </a:rPr>
                  <a:t>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2" name="Rectangle 63"/>
            <p:cNvSpPr/>
            <p:nvPr/>
          </p:nvSpPr>
          <p:spPr>
            <a:xfrm>
              <a:off x="5645160" y="2597040"/>
              <a:ext cx="3035160" cy="292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64"/>
            <p:cNvSpPr/>
            <p:nvPr/>
          </p:nvSpPr>
          <p:spPr>
            <a:xfrm>
              <a:off x="6562800" y="2571840"/>
              <a:ext cx="1098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immedi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65"/>
            <p:cNvSpPr/>
            <p:nvPr/>
          </p:nvSpPr>
          <p:spPr>
            <a:xfrm>
              <a:off x="8517960" y="2284560"/>
              <a:ext cx="287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66"/>
            <p:cNvSpPr/>
            <p:nvPr/>
          </p:nvSpPr>
          <p:spPr>
            <a:xfrm>
              <a:off x="5317560" y="228456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67"/>
            <p:cNvSpPr/>
            <p:nvPr/>
          </p:nvSpPr>
          <p:spPr>
            <a:xfrm>
              <a:off x="4326840" y="228456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68"/>
            <p:cNvSpPr/>
            <p:nvPr/>
          </p:nvSpPr>
          <p:spPr>
            <a:xfrm>
              <a:off x="3336120" y="228456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69"/>
            <p:cNvSpPr/>
            <p:nvPr/>
          </p:nvSpPr>
          <p:spPr>
            <a:xfrm>
              <a:off x="2498040" y="2284560"/>
              <a:ext cx="389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70"/>
            <p:cNvSpPr/>
            <p:nvPr/>
          </p:nvSpPr>
          <p:spPr>
            <a:xfrm>
              <a:off x="2879280" y="289404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71"/>
            <p:cNvSpPr/>
            <p:nvPr/>
          </p:nvSpPr>
          <p:spPr>
            <a:xfrm>
              <a:off x="6765120" y="2894040"/>
              <a:ext cx="733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16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72"/>
            <p:cNvSpPr/>
            <p:nvPr/>
          </p:nvSpPr>
          <p:spPr>
            <a:xfrm>
              <a:off x="4860360" y="289404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73"/>
            <p:cNvSpPr/>
            <p:nvPr/>
          </p:nvSpPr>
          <p:spPr>
            <a:xfrm>
              <a:off x="3870000" y="2894040"/>
              <a:ext cx="631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5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Basic Assembly Language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Gill Sans MT"/>
              </a:rPr>
              <a:t>Instruction formats and addressing mod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nstruction forma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register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mmediate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jump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Addressing mod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mmediate - value built in to the instruc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register - register used for data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Memory referencing - used with load and store instruc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label - fixed address built in to the instruction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ndirect - register contains the addres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Base addressing - field of a recor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Aft>
                <a:spcPts val="499"/>
              </a:spcAft>
              <a:buClr>
                <a:srgbClr val="3891a7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 MT"/>
              </a:rPr>
              <a:t>Indexed addressing - element of an array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Basic Assembly Language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Instruction forma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ll instructions fit in 32-bit wor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decoding starts with the leftmost 6-bits, the op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Regist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or operations using only registers as operands, the operation code is 000000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6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   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6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0000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rc reg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rget reg  Dest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hift amt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function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0000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1010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0111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 00101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 0000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00010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he last line of the table gives as an example a subtract instruction, sub $5, $10, $7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3 5-bit fields identify the 3 regs: src, target/src, dest (diff from assembly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Basic Assembly Language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Instruction formats (Regis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flow between registers and 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dd $t3, $t1, $t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$t1 = $9, $t2 = $10, $t3 = $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9" name="Picture 1028" descr=""/>
          <p:cNvPicPr/>
          <p:nvPr/>
        </p:nvPicPr>
        <p:blipFill>
          <a:blip r:embed="rId2"/>
          <a:stretch/>
        </p:blipFill>
        <p:spPr>
          <a:xfrm>
            <a:off x="2590920" y="3352680"/>
            <a:ext cx="3771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Basic Assembly Language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Immedi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16-bit immediate (constant), 6-bit op, 2 re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addi $t1, $t2, 0xfffe (actually adds 0xfffffffe, -2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shorter numbers are sign exten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6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5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6 bit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op code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src reg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target reg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immediate value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0100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101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1001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1111 1111 1111 111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72314"/>
                </a:solidFill>
                <a:latin typeface="Gill Sans MT"/>
              </a:rPr>
              <a:t>Basic Assembly Language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ill Sans MT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se all 26-bits following the op code for jum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last 2 bits are always 0 (word alignment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</a:rPr>
              <a:t>upon execution, the 26-bit jump target is shifted left 2 bits and stored in the PC, causing the jum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6 bits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26 bits - jump target (words)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j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x0040000c 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00010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0x010000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can only target the first 256Mb of memo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499"/>
              </a:spcBef>
              <a:spcAft>
                <a:spcPts val="499"/>
              </a:spcAft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workarounds: reserve “low” memory, use jump-reg instructions</a:t>
            </a:r>
            <a:r>
              <a:rPr b="0" lang="en-GB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mmediate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64800" y="134316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nd is </a:t>
            </a:r>
            <a:r>
              <a:rPr b="0" lang="en-US" sz="2400" spc="-1" strike="noStrike">
                <a:solidFill>
                  <a:srgbClr val="feb80a"/>
                </a:solidFill>
                <a:latin typeface="Gill Sans MT"/>
              </a:rPr>
              <a:t>part o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nd = address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 ADD #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5 to contents of accumul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 is oper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memory reference to fetch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r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89" name="Group 6"/>
          <p:cNvGrpSpPr/>
          <p:nvPr/>
        </p:nvGrpSpPr>
        <p:grpSpPr>
          <a:xfrm>
            <a:off x="3123720" y="5029200"/>
            <a:ext cx="4799520" cy="1061640"/>
            <a:chOff x="3123720" y="5029200"/>
            <a:chExt cx="4799520" cy="1061640"/>
          </a:xfrm>
        </p:grpSpPr>
        <p:grpSp>
          <p:nvGrpSpPr>
            <p:cNvPr id="590" name="Group 7"/>
            <p:cNvGrpSpPr/>
            <p:nvPr/>
          </p:nvGrpSpPr>
          <p:grpSpPr>
            <a:xfrm>
              <a:off x="3200400" y="5486040"/>
              <a:ext cx="4722840" cy="604800"/>
              <a:chOff x="3200400" y="5486040"/>
              <a:chExt cx="4722840" cy="604800"/>
            </a:xfrm>
          </p:grpSpPr>
          <p:sp>
            <p:nvSpPr>
              <p:cNvPr id="591" name="Rectangle 8"/>
              <p:cNvSpPr/>
              <p:nvPr/>
            </p:nvSpPr>
            <p:spPr>
              <a:xfrm>
                <a:off x="3200400" y="5486040"/>
                <a:ext cx="4722840" cy="604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4190760" y="5493600"/>
                <a:ext cx="0" cy="59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Rectangle 10"/>
            <p:cNvSpPr/>
            <p:nvPr/>
          </p:nvSpPr>
          <p:spPr>
            <a:xfrm>
              <a:off x="5333400" y="5562360"/>
              <a:ext cx="1231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Oper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11"/>
            <p:cNvSpPr/>
            <p:nvPr/>
          </p:nvSpPr>
          <p:spPr>
            <a:xfrm>
              <a:off x="3123720" y="5562360"/>
              <a:ext cx="1129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Op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Rectangle 12"/>
            <p:cNvSpPr/>
            <p:nvPr/>
          </p:nvSpPr>
          <p:spPr>
            <a:xfrm>
              <a:off x="4569120" y="5029200"/>
              <a:ext cx="150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mplementation Review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rst, let’s think about how different instructions get execu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16" name="Picture 5" descr=""/>
          <p:cNvPicPr/>
          <p:nvPr/>
        </p:nvPicPr>
        <p:blipFill>
          <a:blip r:embed="rId2"/>
          <a:stretch/>
        </p:blipFill>
        <p:spPr>
          <a:xfrm>
            <a:off x="1117440" y="2514600"/>
            <a:ext cx="734076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Abstract Implementation View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018" name="Picture 7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82296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035000" y="914400"/>
            <a:ext cx="1866960" cy="3913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03040" indent="-203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-203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3040" indent="-203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Line 3"/>
          <p:cNvSpPr/>
          <p:nvPr/>
        </p:nvSpPr>
        <p:spPr>
          <a:xfrm flipH="1">
            <a:off x="3130200" y="12952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Group 4"/>
          <p:cNvGrpSpPr/>
          <p:nvPr/>
        </p:nvGrpSpPr>
        <p:grpSpPr>
          <a:xfrm>
            <a:off x="3892680" y="1143000"/>
            <a:ext cx="457200" cy="1219320"/>
            <a:chOff x="3892680" y="1143000"/>
            <a:chExt cx="457200" cy="1219320"/>
          </a:xfrm>
        </p:grpSpPr>
        <p:sp>
          <p:nvSpPr>
            <p:cNvPr id="1022" name="Line 5"/>
            <p:cNvSpPr/>
            <p:nvPr/>
          </p:nvSpPr>
          <p:spPr>
            <a:xfrm>
              <a:off x="3892680" y="11430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6"/>
            <p:cNvSpPr/>
            <p:nvPr/>
          </p:nvSpPr>
          <p:spPr>
            <a:xfrm>
              <a:off x="3892680" y="1143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7"/>
            <p:cNvSpPr/>
            <p:nvPr/>
          </p:nvSpPr>
          <p:spPr>
            <a:xfrm>
              <a:off x="3892680" y="144792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8"/>
            <p:cNvSpPr/>
            <p:nvPr/>
          </p:nvSpPr>
          <p:spPr>
            <a:xfrm>
              <a:off x="4121280" y="16002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Line 9"/>
            <p:cNvSpPr/>
            <p:nvPr/>
          </p:nvSpPr>
          <p:spPr>
            <a:xfrm>
              <a:off x="4349880" y="144792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Line 10"/>
            <p:cNvSpPr/>
            <p:nvPr/>
          </p:nvSpPr>
          <p:spPr>
            <a:xfrm flipV="1">
              <a:off x="3892680" y="1904760"/>
              <a:ext cx="228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11"/>
            <p:cNvSpPr/>
            <p:nvPr/>
          </p:nvSpPr>
          <p:spPr>
            <a:xfrm>
              <a:off x="3892680" y="205740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12"/>
            <p:cNvSpPr/>
            <p:nvPr/>
          </p:nvSpPr>
          <p:spPr>
            <a:xfrm flipV="1">
              <a:off x="3892680" y="205704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Line 13"/>
          <p:cNvSpPr/>
          <p:nvPr/>
        </p:nvSpPr>
        <p:spPr>
          <a:xfrm flipH="1">
            <a:off x="3511440" y="121932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14"/>
          <p:cNvSpPr/>
          <p:nvPr/>
        </p:nvSpPr>
        <p:spPr>
          <a:xfrm>
            <a:off x="3189600" y="12492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Line 15"/>
          <p:cNvSpPr/>
          <p:nvPr/>
        </p:nvSpPr>
        <p:spPr>
          <a:xfrm flipH="1">
            <a:off x="3130200" y="22096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Line 16"/>
          <p:cNvSpPr/>
          <p:nvPr/>
        </p:nvSpPr>
        <p:spPr>
          <a:xfrm flipH="1">
            <a:off x="3511440" y="213372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17"/>
          <p:cNvSpPr/>
          <p:nvPr/>
        </p:nvSpPr>
        <p:spPr>
          <a:xfrm>
            <a:off x="3189600" y="2163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18"/>
          <p:cNvSpPr/>
          <p:nvPr/>
        </p:nvSpPr>
        <p:spPr>
          <a:xfrm>
            <a:off x="2809440" y="10969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19"/>
          <p:cNvSpPr/>
          <p:nvPr/>
        </p:nvSpPr>
        <p:spPr>
          <a:xfrm>
            <a:off x="2809800" y="20113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20"/>
          <p:cNvSpPr/>
          <p:nvPr/>
        </p:nvSpPr>
        <p:spPr>
          <a:xfrm flipH="1">
            <a:off x="4349880" y="1752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Line 21"/>
          <p:cNvSpPr/>
          <p:nvPr/>
        </p:nvSpPr>
        <p:spPr>
          <a:xfrm flipH="1">
            <a:off x="4730760" y="167652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2"/>
          <p:cNvSpPr/>
          <p:nvPr/>
        </p:nvSpPr>
        <p:spPr>
          <a:xfrm>
            <a:off x="4408560" y="1706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3"/>
          <p:cNvSpPr/>
          <p:nvPr/>
        </p:nvSpPr>
        <p:spPr>
          <a:xfrm>
            <a:off x="5094720" y="155412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Line 24"/>
          <p:cNvSpPr/>
          <p:nvPr/>
        </p:nvSpPr>
        <p:spPr>
          <a:xfrm>
            <a:off x="4121280" y="22096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5"/>
          <p:cNvSpPr/>
          <p:nvPr/>
        </p:nvSpPr>
        <p:spPr>
          <a:xfrm>
            <a:off x="5094360" y="2011320"/>
            <a:ext cx="851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ar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Line 26"/>
          <p:cNvSpPr/>
          <p:nvPr/>
        </p:nvSpPr>
        <p:spPr>
          <a:xfrm flipH="1">
            <a:off x="3053880" y="52578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Group 27"/>
          <p:cNvGrpSpPr/>
          <p:nvPr/>
        </p:nvGrpSpPr>
        <p:grpSpPr>
          <a:xfrm>
            <a:off x="3816360" y="5105520"/>
            <a:ext cx="457200" cy="1218960"/>
            <a:chOff x="3816360" y="5105520"/>
            <a:chExt cx="457200" cy="1218960"/>
          </a:xfrm>
        </p:grpSpPr>
        <p:sp>
          <p:nvSpPr>
            <p:cNvPr id="1045" name="Line 28"/>
            <p:cNvSpPr/>
            <p:nvPr/>
          </p:nvSpPr>
          <p:spPr>
            <a:xfrm>
              <a:off x="3816360" y="51055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Line 29"/>
            <p:cNvSpPr/>
            <p:nvPr/>
          </p:nvSpPr>
          <p:spPr>
            <a:xfrm>
              <a:off x="3816360" y="5105520"/>
              <a:ext cx="4572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Line 30"/>
            <p:cNvSpPr/>
            <p:nvPr/>
          </p:nvSpPr>
          <p:spPr>
            <a:xfrm>
              <a:off x="3816360" y="5410080"/>
              <a:ext cx="228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Line 31"/>
            <p:cNvSpPr/>
            <p:nvPr/>
          </p:nvSpPr>
          <p:spPr>
            <a:xfrm>
              <a:off x="4044960" y="55627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Line 32"/>
            <p:cNvSpPr/>
            <p:nvPr/>
          </p:nvSpPr>
          <p:spPr>
            <a:xfrm>
              <a:off x="4273560" y="54100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Line 33"/>
            <p:cNvSpPr/>
            <p:nvPr/>
          </p:nvSpPr>
          <p:spPr>
            <a:xfrm flipV="1">
              <a:off x="3816360" y="5867280"/>
              <a:ext cx="228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Line 34"/>
            <p:cNvSpPr/>
            <p:nvPr/>
          </p:nvSpPr>
          <p:spPr>
            <a:xfrm>
              <a:off x="3816360" y="60199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Line 35"/>
            <p:cNvSpPr/>
            <p:nvPr/>
          </p:nvSpPr>
          <p:spPr>
            <a:xfrm flipV="1">
              <a:off x="3816360" y="6019920"/>
              <a:ext cx="4572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3" name="Line 36"/>
          <p:cNvSpPr/>
          <p:nvPr/>
        </p:nvSpPr>
        <p:spPr>
          <a:xfrm flipH="1">
            <a:off x="3435120" y="51814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37"/>
          <p:cNvSpPr/>
          <p:nvPr/>
        </p:nvSpPr>
        <p:spPr>
          <a:xfrm>
            <a:off x="3113280" y="52117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38"/>
          <p:cNvSpPr/>
          <p:nvPr/>
        </p:nvSpPr>
        <p:spPr>
          <a:xfrm flipH="1">
            <a:off x="3053880" y="61722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39"/>
          <p:cNvSpPr/>
          <p:nvPr/>
        </p:nvSpPr>
        <p:spPr>
          <a:xfrm flipH="1">
            <a:off x="3435120" y="6095880"/>
            <a:ext cx="759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40"/>
          <p:cNvSpPr/>
          <p:nvPr/>
        </p:nvSpPr>
        <p:spPr>
          <a:xfrm>
            <a:off x="3113280" y="61261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41"/>
          <p:cNvSpPr/>
          <p:nvPr/>
        </p:nvSpPr>
        <p:spPr>
          <a:xfrm>
            <a:off x="2733480" y="50594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Rectangle 42"/>
          <p:cNvSpPr/>
          <p:nvPr/>
        </p:nvSpPr>
        <p:spPr>
          <a:xfrm>
            <a:off x="2733840" y="597384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3"/>
          <p:cNvSpPr/>
          <p:nvPr/>
        </p:nvSpPr>
        <p:spPr>
          <a:xfrm flipH="1">
            <a:off x="4273200" y="57150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4"/>
          <p:cNvSpPr/>
          <p:nvPr/>
        </p:nvSpPr>
        <p:spPr>
          <a:xfrm flipH="1">
            <a:off x="4654440" y="56386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45"/>
          <p:cNvSpPr/>
          <p:nvPr/>
        </p:nvSpPr>
        <p:spPr>
          <a:xfrm>
            <a:off x="4332600" y="566892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Rectangle 46"/>
          <p:cNvSpPr/>
          <p:nvPr/>
        </p:nvSpPr>
        <p:spPr>
          <a:xfrm>
            <a:off x="5018760" y="5516640"/>
            <a:ext cx="878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47"/>
          <p:cNvSpPr/>
          <p:nvPr/>
        </p:nvSpPr>
        <p:spPr>
          <a:xfrm>
            <a:off x="404496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Rectangle 48"/>
          <p:cNvSpPr/>
          <p:nvPr/>
        </p:nvSpPr>
        <p:spPr>
          <a:xfrm>
            <a:off x="3741840" y="4468680"/>
            <a:ext cx="684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6" name="Group 49"/>
          <p:cNvGrpSpPr/>
          <p:nvPr/>
        </p:nvGrpSpPr>
        <p:grpSpPr>
          <a:xfrm>
            <a:off x="3892680" y="3124080"/>
            <a:ext cx="304560" cy="1143000"/>
            <a:chOff x="3892680" y="3124080"/>
            <a:chExt cx="304560" cy="1143000"/>
          </a:xfrm>
        </p:grpSpPr>
        <p:sp>
          <p:nvSpPr>
            <p:cNvPr id="1067" name="Line 50"/>
            <p:cNvSpPr/>
            <p:nvPr/>
          </p:nvSpPr>
          <p:spPr>
            <a:xfrm>
              <a:off x="3892680" y="3124080"/>
              <a:ext cx="0" cy="114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51"/>
            <p:cNvSpPr/>
            <p:nvPr/>
          </p:nvSpPr>
          <p:spPr>
            <a:xfrm>
              <a:off x="3892680" y="3124080"/>
              <a:ext cx="30456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Line 52"/>
            <p:cNvSpPr/>
            <p:nvPr/>
          </p:nvSpPr>
          <p:spPr>
            <a:xfrm flipV="1">
              <a:off x="3892680" y="4114440"/>
              <a:ext cx="30456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53"/>
            <p:cNvSpPr/>
            <p:nvPr/>
          </p:nvSpPr>
          <p:spPr>
            <a:xfrm>
              <a:off x="4197240" y="327672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1" name="Line 54"/>
          <p:cNvSpPr/>
          <p:nvPr/>
        </p:nvSpPr>
        <p:spPr>
          <a:xfrm flipH="1">
            <a:off x="3130200" y="33526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55"/>
          <p:cNvSpPr/>
          <p:nvPr/>
        </p:nvSpPr>
        <p:spPr>
          <a:xfrm flipH="1">
            <a:off x="3511440" y="327672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Rectangle 56"/>
          <p:cNvSpPr/>
          <p:nvPr/>
        </p:nvSpPr>
        <p:spPr>
          <a:xfrm>
            <a:off x="3189600" y="33066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57"/>
          <p:cNvSpPr/>
          <p:nvPr/>
        </p:nvSpPr>
        <p:spPr>
          <a:xfrm flipH="1">
            <a:off x="3130200" y="403848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58"/>
          <p:cNvSpPr/>
          <p:nvPr/>
        </p:nvSpPr>
        <p:spPr>
          <a:xfrm flipH="1">
            <a:off x="3511440" y="396252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59"/>
          <p:cNvSpPr/>
          <p:nvPr/>
        </p:nvSpPr>
        <p:spPr>
          <a:xfrm>
            <a:off x="2809440" y="31543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60"/>
          <p:cNvSpPr/>
          <p:nvPr/>
        </p:nvSpPr>
        <p:spPr>
          <a:xfrm>
            <a:off x="2809800" y="38401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61"/>
          <p:cNvSpPr/>
          <p:nvPr/>
        </p:nvSpPr>
        <p:spPr>
          <a:xfrm>
            <a:off x="3189600" y="399240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Line 62"/>
          <p:cNvSpPr/>
          <p:nvPr/>
        </p:nvSpPr>
        <p:spPr>
          <a:xfrm flipH="1">
            <a:off x="4196880" y="373392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63"/>
          <p:cNvSpPr/>
          <p:nvPr/>
        </p:nvSpPr>
        <p:spPr>
          <a:xfrm flipH="1">
            <a:off x="4578120" y="365760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64"/>
          <p:cNvSpPr/>
          <p:nvPr/>
        </p:nvSpPr>
        <p:spPr>
          <a:xfrm>
            <a:off x="4943160" y="35352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65"/>
          <p:cNvSpPr/>
          <p:nvPr/>
        </p:nvSpPr>
        <p:spPr>
          <a:xfrm>
            <a:off x="4256280" y="3687840"/>
            <a:ext cx="4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Line 66"/>
          <p:cNvSpPr/>
          <p:nvPr/>
        </p:nvSpPr>
        <p:spPr>
          <a:xfrm>
            <a:off x="4044960" y="2743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67"/>
          <p:cNvSpPr/>
          <p:nvPr/>
        </p:nvSpPr>
        <p:spPr>
          <a:xfrm>
            <a:off x="3648240" y="2436840"/>
            <a:ext cx="1082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8"/>
          <p:cNvSpPr/>
          <p:nvPr/>
        </p:nvSpPr>
        <p:spPr>
          <a:xfrm rot="5400000">
            <a:off x="3841560" y="164160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69"/>
          <p:cNvSpPr/>
          <p:nvPr/>
        </p:nvSpPr>
        <p:spPr>
          <a:xfrm rot="5400000">
            <a:off x="3689280" y="3554280"/>
            <a:ext cx="66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70"/>
          <p:cNvSpPr/>
          <p:nvPr/>
        </p:nvSpPr>
        <p:spPr>
          <a:xfrm rot="5400000">
            <a:off x="3835080" y="5551560"/>
            <a:ext cx="61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71"/>
          <p:cNvSpPr/>
          <p:nvPr/>
        </p:nvSpPr>
        <p:spPr>
          <a:xfrm>
            <a:off x="4197240" y="914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72"/>
          <p:cNvSpPr/>
          <p:nvPr/>
        </p:nvSpPr>
        <p:spPr>
          <a:xfrm>
            <a:off x="4179240" y="792000"/>
            <a:ext cx="1091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Carry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Line 73"/>
          <p:cNvSpPr/>
          <p:nvPr/>
        </p:nvSpPr>
        <p:spPr>
          <a:xfrm flipV="1">
            <a:off x="3968640" y="480024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74"/>
          <p:cNvSpPr/>
          <p:nvPr/>
        </p:nvSpPr>
        <p:spPr>
          <a:xfrm>
            <a:off x="4256640" y="46022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75"/>
          <p:cNvSpPr/>
          <p:nvPr/>
        </p:nvSpPr>
        <p:spPr>
          <a:xfrm>
            <a:off x="632160" y="189000"/>
            <a:ext cx="7095240" cy="5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Gill Sans MT"/>
                <a:ea typeface="ＭＳ ゴシック"/>
              </a:rPr>
              <a:t>Step 2: Components of the Data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76"/>
          <p:cNvSpPr/>
          <p:nvPr/>
        </p:nvSpPr>
        <p:spPr>
          <a:xfrm>
            <a:off x="5933520" y="5715000"/>
            <a:ext cx="281592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ＭＳ ゴシック"/>
              </a:rPr>
              <a:t>Combinational Logic:</a:t>
            </a:r>
            <a:br>
              <a:rPr sz="2400"/>
            </a:br>
            <a:r>
              <a:rPr b="0" lang="en-US" sz="2400" spc="-1" strike="noStrike">
                <a:solidFill>
                  <a:srgbClr val="4f271c"/>
                </a:solidFill>
                <a:latin typeface="Times New Roman"/>
                <a:ea typeface="ＭＳ ゴシック"/>
              </a:rPr>
              <a:t>Does not use a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990720" y="3571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Fetching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952200" y="1357200"/>
            <a:ext cx="56005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Fetching instructions invol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reading the instruction from the Instruction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updating the PC to hold the address of the next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PC is updated every cycle, so it does not need an explicit write control sig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NewRoman"/>
              </a:rPr>
              <a:t>Instruction Memory is read every cycle, so it doesn’t need an explicit read control sig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6" name="Picture 4" descr=""/>
          <p:cNvPicPr/>
          <p:nvPr/>
        </p:nvPicPr>
        <p:blipFill>
          <a:blip r:embed="rId2"/>
          <a:stretch/>
        </p:blipFill>
        <p:spPr>
          <a:xfrm>
            <a:off x="6172200" y="1676520"/>
            <a:ext cx="2865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Decoding Instruc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oding instructions invol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the fetched instruction’s opcode and function field bits to the control un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ding two values from the Register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 File addresses are contained in the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9" name="Picture 4" descr=""/>
          <p:cNvPicPr/>
          <p:nvPr/>
        </p:nvPicPr>
        <p:blipFill>
          <a:blip r:embed="rId2"/>
          <a:stretch/>
        </p:blipFill>
        <p:spPr>
          <a:xfrm>
            <a:off x="3276720" y="2895480"/>
            <a:ext cx="472428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90360" y="428760"/>
            <a:ext cx="82580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R Format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erform the indicated (by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op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funct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 operation on values in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ore the result back into the Register File (into location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te that Register File is not written every cycle (e.g. </a:t>
            </a:r>
            <a:r>
              <a:rPr b="1" lang="en-US" sz="2000" spc="-1" strike="noStrike">
                <a:solidFill>
                  <a:srgbClr val="ff0000"/>
                </a:solidFill>
                <a:latin typeface="Gill Sans MT"/>
              </a:rPr>
              <a:t>sw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, so we need an explicit write control signal for the Register Fi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669960" y="990720"/>
            <a:ext cx="65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R format operations (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  <a:ea typeface="ＭＳ ゴシック"/>
              </a:rPr>
              <a:t>add, sub, slt, and, o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3" name="Picture 5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5226120" cy="7794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6" descr=""/>
          <p:cNvPicPr/>
          <p:nvPr/>
        </p:nvPicPr>
        <p:blipFill>
          <a:blip r:embed="rId3"/>
          <a:stretch/>
        </p:blipFill>
        <p:spPr>
          <a:xfrm>
            <a:off x="2143080" y="4357800"/>
            <a:ext cx="4743360" cy="22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Load and Store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and store oper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a memory address by adding the base register (in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to the 16-bit signed offset field in the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e register was read from the Register File during de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fset value in the low order 16 bits of the instruction must be sign extended to create a 32-bit signed val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, read from the Register File during decode,must be written to the Data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loa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, read from the Data Memory, must be stored in the Register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7" name="Picture 4" descr=""/>
          <p:cNvPicPr/>
          <p:nvPr/>
        </p:nvPicPr>
        <p:blipFill>
          <a:blip r:embed="rId2"/>
          <a:stretch/>
        </p:blipFill>
        <p:spPr>
          <a:xfrm>
            <a:off x="2133720" y="5181480"/>
            <a:ext cx="594360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Load and Store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09" name="Picture 4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7620120" cy="39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Branch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anch operations have 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are the operands read from the Register File during decode (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s) for equality (</a:t>
            </a:r>
            <a:r>
              <a:rPr b="1" lang="en-US" sz="2400" spc="-1" strike="noStrike">
                <a:solidFill>
                  <a:srgbClr val="ff0000"/>
                </a:solidFill>
                <a:latin typeface="Gill Sans MT"/>
              </a:rPr>
              <a:t>zer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U outpu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the branch target address by adding the updated PC to the sign extended16-bit signed offset field in the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se register” is the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updat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ffset value in the low order 16 bits of the instruction must be sign extended to create a 32-bit signed value and then </a:t>
            </a:r>
            <a:r>
              <a:rPr b="0" lang="en-US" sz="2400" spc="-1" strike="noStrike">
                <a:solidFill>
                  <a:srgbClr val="feb80a"/>
                </a:solidFill>
                <a:latin typeface="Gill Sans MT"/>
              </a:rPr>
              <a:t>shifted left 2 bits to turn it into a word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12" name="Picture 4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678168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Branch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14" name="Picture 3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7550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irect/Absolute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80010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field </a:t>
            </a:r>
            <a:r>
              <a:rPr b="0" lang="en-US" sz="2400" spc="-1" strike="noStrike">
                <a:solidFill>
                  <a:srgbClr val="feb80a"/>
                </a:solidFill>
                <a:latin typeface="Gill Sans MT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ddress of oper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 address (EA) = address field (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  ADD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contents of cell A to accumul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ok in memory at address A for oper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ex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 $1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 $100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memory reference to acces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additional calculations to work out effective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address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Executing Jump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mp operations have t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4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ace the lower 28 bits of the PC with the lower 26 bits of the fetched instruction shifted left by 2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17" name="Picture 4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6248520" cy="68580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" descr=""/>
          <p:cNvPicPr/>
          <p:nvPr/>
        </p:nvPicPr>
        <p:blipFill>
          <a:blip r:embed="rId3"/>
          <a:stretch/>
        </p:blipFill>
        <p:spPr>
          <a:xfrm>
            <a:off x="1143000" y="2743200"/>
            <a:ext cx="647712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Creating a Single Datapath from the Par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semble the datapath segments, add control lines as needed, and design the control pa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tch, decode and execute each instructions in one clockcycle –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single cyc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datapath resource can be used more than once per instruction, so some must be duplicated (e.g., why we have a separate Instruction Memory and Data Memo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hare datapath elements between two different instruction classes will need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multiplexor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the input of the shared elements with control lines to do the sel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ycle time is determined by length of the longest pa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84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Fetch, R, and Memory Access Por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22" name="Picture 3" descr=""/>
          <p:cNvPicPr/>
          <p:nvPr/>
        </p:nvPicPr>
        <p:blipFill>
          <a:blip r:embed="rId2"/>
          <a:stretch/>
        </p:blipFill>
        <p:spPr>
          <a:xfrm>
            <a:off x="914400" y="1371600"/>
            <a:ext cx="8077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Multiplexor Inser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24" name="Picture 3" descr=""/>
          <p:cNvPicPr/>
          <p:nvPr/>
        </p:nvPicPr>
        <p:blipFill>
          <a:blip r:embed="rId2"/>
          <a:stretch/>
        </p:blipFill>
        <p:spPr>
          <a:xfrm>
            <a:off x="685800" y="1447920"/>
            <a:ext cx="8305920" cy="42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Clock Distribu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2"/>
          <a:stretch/>
        </p:blipFill>
        <p:spPr>
          <a:xfrm>
            <a:off x="838080" y="990720"/>
            <a:ext cx="807732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Adding the Branch Por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28" name="Picture 1027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8153280" cy="4802040"/>
          </a:xfrm>
          <a:prstGeom prst="rect">
            <a:avLst/>
          </a:prstGeom>
          <a:ln w="0">
            <a:noFill/>
          </a:ln>
        </p:spPr>
      </p:pic>
      <p:sp>
        <p:nvSpPr>
          <p:cNvPr id="1129" name="Rectangle 1028"/>
          <p:cNvSpPr/>
          <p:nvPr/>
        </p:nvSpPr>
        <p:spPr>
          <a:xfrm>
            <a:off x="8610480" y="1371600"/>
            <a:ext cx="15264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Adding the Contro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90720" y="838080"/>
            <a:ext cx="8153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lecting the operations to perform (ALU, Register File and Memory read/writ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trolling the flow of data (multiplexor input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rmation comes from the 32 bits of the instruc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 field always in bits 31-2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r of two registers to be read are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alway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cified by the rs and rt fields (bits 25-21 and 20-16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r. of register to be written is in one of 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two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laces – in rt (bits 20- 16) for lw; in rd (bits 15-11) for R-type instruct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ase register for lw and sw always in rs (bits 25-2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4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fset for beq, lw, and sw always in bits 15-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32" name="Picture 4" descr=""/>
          <p:cNvPicPr/>
          <p:nvPr/>
        </p:nvPicPr>
        <p:blipFill>
          <a:blip r:embed="rId2"/>
          <a:stretch/>
        </p:blipFill>
        <p:spPr>
          <a:xfrm>
            <a:off x="2278080" y="4876920"/>
            <a:ext cx="511344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13204"/>
                </a:solidFill>
                <a:latin typeface="Gill Sans MT"/>
              </a:rPr>
              <a:t>(Almost) Complete Single Cycle Datapath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1134" name="Picture 3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7897680" cy="4662720"/>
          </a:xfrm>
          <a:prstGeom prst="rect">
            <a:avLst/>
          </a:prstGeom>
          <a:ln w="0">
            <a:noFill/>
          </a:ln>
        </p:spPr>
      </p:pic>
      <p:sp>
        <p:nvSpPr>
          <p:cNvPr id="1135" name="Text Box 4"/>
          <p:cNvSpPr/>
          <p:nvPr/>
        </p:nvSpPr>
        <p:spPr>
          <a:xfrm>
            <a:off x="1955880" y="594360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Almost – ALU control is yet to be expa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"/>
          <p:cNvSpPr/>
          <p:nvPr/>
        </p:nvSpPr>
        <p:spPr>
          <a:xfrm>
            <a:off x="3660840" y="59230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irect/Absolute Addressing Diagr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03" name="Group 5"/>
          <p:cNvGrpSpPr/>
          <p:nvPr/>
        </p:nvGrpSpPr>
        <p:grpSpPr>
          <a:xfrm>
            <a:off x="1374840" y="1981080"/>
            <a:ext cx="4722840" cy="604800"/>
            <a:chOff x="1374840" y="1981080"/>
            <a:chExt cx="4722840" cy="604800"/>
          </a:xfrm>
        </p:grpSpPr>
        <p:sp>
          <p:nvSpPr>
            <p:cNvPr id="604" name="Rectangle 6"/>
            <p:cNvSpPr/>
            <p:nvPr/>
          </p:nvSpPr>
          <p:spPr>
            <a:xfrm>
              <a:off x="1374840" y="1981080"/>
              <a:ext cx="4722840" cy="60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>
              <a:off x="2365560" y="1988640"/>
              <a:ext cx="0" cy="59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Rectangle 8"/>
          <p:cNvSpPr/>
          <p:nvPr/>
        </p:nvSpPr>
        <p:spPr>
          <a:xfrm>
            <a:off x="3508920" y="2057400"/>
            <a:ext cx="1476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Addr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1298160" y="205740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3048480" y="152388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1"/>
          <p:cNvSpPr/>
          <p:nvPr/>
        </p:nvSpPr>
        <p:spPr>
          <a:xfrm>
            <a:off x="6327720" y="289548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2"/>
          <p:cNvSpPr/>
          <p:nvPr/>
        </p:nvSpPr>
        <p:spPr>
          <a:xfrm>
            <a:off x="6327720" y="358128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3"/>
          <p:cNvSpPr/>
          <p:nvPr/>
        </p:nvSpPr>
        <p:spPr>
          <a:xfrm>
            <a:off x="6327720" y="426708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6327720" y="495288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5"/>
          <p:cNvSpPr/>
          <p:nvPr/>
        </p:nvSpPr>
        <p:spPr>
          <a:xfrm>
            <a:off x="6327720" y="5638680"/>
            <a:ext cx="2587680" cy="6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6"/>
          <p:cNvSpPr/>
          <p:nvPr/>
        </p:nvSpPr>
        <p:spPr>
          <a:xfrm>
            <a:off x="6859800" y="2362320"/>
            <a:ext cx="1233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17"/>
          <p:cNvSpPr/>
          <p:nvPr/>
        </p:nvSpPr>
        <p:spPr>
          <a:xfrm>
            <a:off x="7013160" y="441972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reeform 18"/>
          <p:cNvSpPr/>
          <p:nvPr/>
        </p:nvSpPr>
        <p:spPr>
          <a:xfrm>
            <a:off x="3736800" y="2587680"/>
            <a:ext cx="2590920" cy="2022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gister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907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perand is held </a:t>
            </a:r>
            <a:r>
              <a:rPr b="0" lang="en-US" sz="2200" spc="-1" strike="noStrike">
                <a:solidFill>
                  <a:srgbClr val="feb80a"/>
                </a:solidFill>
                <a:latin typeface="Gill Sans MT"/>
              </a:rPr>
              <a:t>in register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named in address file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A = (R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mited number of regist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Very small address field neede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181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horter instruc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181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aster instruction fetch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 memory ac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Very fast execu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Very limited address spa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ultiple registers helps performan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181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quires good assembly programming or compiler writ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492480" indent="-181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.e. C programming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681840" indent="-1756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gister int a;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-2174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are With: Direct address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80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2440080" y="62294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Register Addressing Diagra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24" name="Group 5"/>
          <p:cNvGrpSpPr/>
          <p:nvPr/>
        </p:nvGrpSpPr>
        <p:grpSpPr>
          <a:xfrm>
            <a:off x="1222200" y="2057400"/>
            <a:ext cx="4722840" cy="604800"/>
            <a:chOff x="1222200" y="2057400"/>
            <a:chExt cx="4722840" cy="604800"/>
          </a:xfrm>
        </p:grpSpPr>
        <p:sp>
          <p:nvSpPr>
            <p:cNvPr id="625" name="Rectangle 6"/>
            <p:cNvSpPr/>
            <p:nvPr/>
          </p:nvSpPr>
          <p:spPr>
            <a:xfrm>
              <a:off x="1222200" y="2057400"/>
              <a:ext cx="4722840" cy="604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7"/>
            <p:cNvSpPr/>
            <p:nvPr/>
          </p:nvSpPr>
          <p:spPr>
            <a:xfrm>
              <a:off x="2212920" y="2064960"/>
              <a:ext cx="0" cy="59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Rectangle 8"/>
          <p:cNvSpPr/>
          <p:nvPr/>
        </p:nvSpPr>
        <p:spPr>
          <a:xfrm>
            <a:off x="2516400" y="2133720"/>
            <a:ext cx="2554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gister Address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9"/>
          <p:cNvSpPr/>
          <p:nvPr/>
        </p:nvSpPr>
        <p:spPr>
          <a:xfrm>
            <a:off x="1145880" y="2133720"/>
            <a:ext cx="112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0"/>
          <p:cNvSpPr/>
          <p:nvPr/>
        </p:nvSpPr>
        <p:spPr>
          <a:xfrm>
            <a:off x="2895840" y="1600200"/>
            <a:ext cx="1505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6175440" y="29718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6175440" y="36576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6175440" y="43434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6175440" y="50292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15"/>
          <p:cNvSpPr/>
          <p:nvPr/>
        </p:nvSpPr>
        <p:spPr>
          <a:xfrm>
            <a:off x="6175440" y="5715000"/>
            <a:ext cx="2587680" cy="68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6"/>
          <p:cNvSpPr/>
          <p:nvPr/>
        </p:nvSpPr>
        <p:spPr>
          <a:xfrm>
            <a:off x="6706800" y="2438280"/>
            <a:ext cx="1318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17"/>
          <p:cNvSpPr/>
          <p:nvPr/>
        </p:nvSpPr>
        <p:spPr>
          <a:xfrm>
            <a:off x="6860520" y="4495680"/>
            <a:ext cx="1231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p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18"/>
          <p:cNvSpPr/>
          <p:nvPr/>
        </p:nvSpPr>
        <p:spPr>
          <a:xfrm>
            <a:off x="3584520" y="2664000"/>
            <a:ext cx="2590920" cy="2022480"/>
          </a:xfrm>
          <a:prstGeom prst="pie">
            <a:avLst/>
          </a:prstGeom>
          <a:noFill/>
          <a:ln cap="rnd"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dexed address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ing index regis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field of the instruction holds index-register designa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 address is calculated, based on the value at the designated index-register and the address field in the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R = base (Index regis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 = displac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 = IR + 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 for accessing arr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 = IR + 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R++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06:25:37Z</dcterms:created>
  <dc:creator>Pusat Komputer</dc:creator>
  <dc:description/>
  <dc:language>en-US</dc:language>
  <cp:lastModifiedBy>Nasharuddin Zainal</cp:lastModifiedBy>
  <dcterms:modified xsi:type="dcterms:W3CDTF">2011-11-10T06:33:03Z</dcterms:modified>
  <cp:revision>106</cp:revision>
  <dc:subject/>
  <dc:title>Computer Organization  and Architecture</dc:title>
</cp:coreProperties>
</file>